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9.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gif" ContentType="image/gif"/>
  <Override PartName="/ppt/media/image12.jpeg" ContentType="image/jpeg"/>
  <Override PartName="/ppt/media/image13.jpeg" ContentType="image/jpeg"/>
  <Override PartName="/ppt/media/image8.jpeg" ContentType="image/jpeg"/>
  <Override PartName="/ppt/media/image5.png" ContentType="image/png"/>
  <Override PartName="/ppt/media/image7.jpeg" ContentType="image/jpeg"/>
  <Override PartName="/ppt/media/image15.gif" ContentType="image/gif"/>
  <Override PartName="/ppt/media/image6.png" ContentType="image/png"/>
  <Override PartName="/ppt/media/image4.jpeg" ContentType="image/jpeg"/>
  <Override PartName="/ppt/media/image2.png" ContentType="image/png"/>
  <Override PartName="/ppt/media/image25.jpeg" ContentType="image/jpeg"/>
  <Override PartName="/ppt/media/image3.png" ContentType="image/png"/>
  <Override PartName="/ppt/media/image27.jpeg" ContentType="image/jpeg"/>
  <Override PartName="/ppt/media/image2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0.jpeg" ContentType="image/jpeg"/>
  <Override PartName="/ppt/media/image14.gif" ContentType="image/gif"/>
  <Override PartName="/ppt/media/image21.jpeg" ContentType="image/jpeg"/>
  <Override PartName="/ppt/media/image17.gif" ContentType="image/gif"/>
  <Override PartName="/ppt/media/image16.gif" ContentType="image/gif"/>
  <Override PartName="/ppt/media/image1.jpeg" ContentType="image/jpeg"/>
  <Override PartName="/ppt/media/image22.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4.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0.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70.xml" ContentType="application/vnd.openxmlformats-officedocument.presentationml.slideLayout+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13.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347.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19.xml.rels" ContentType="application/vnd.openxmlformats-package.relationships+xml"/>
  <Override PartName="/ppt/slideLayouts/_rels/slideLayout315.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2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6.xml.rels" ContentType="application/vnd.openxmlformats-package.relationships+xml"/>
  <Override PartName="/ppt/slideLayouts/_rels/slideLayout1.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4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8.xml" ContentType="application/vnd.openxmlformats-officedocument.presentationml.slideLayout+xml"/>
  <Override PartName="/ppt/slideLayouts/slideLayout351.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8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Lst>
  <p:sldIdLst>
    <p:sldId id="256" r:id="rId34"/>
    <p:sldId id="257" r:id="rId35"/>
    <p:sldId id="258" r:id="rId36"/>
    <p:sldId id="259" r:id="rId37"/>
    <p:sldId id="260" r:id="rId38"/>
    <p:sldId id="261" r:id="rId39"/>
    <p:sldId id="262" r:id="rId40"/>
    <p:sldId id="263" r:id="rId41"/>
    <p:sldId id="264" r:id="rId42"/>
    <p:sldId id="26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 Target="slides/slide1.xml"/><Relationship Id="rId35" Type="http://schemas.openxmlformats.org/officeDocument/2006/relationships/slide" Target="slides/slide2.xml"/><Relationship Id="rId36" Type="http://schemas.openxmlformats.org/officeDocument/2006/relationships/slide" Target="slides/slide3.xml"/><Relationship Id="rId37" Type="http://schemas.openxmlformats.org/officeDocument/2006/relationships/slide" Target="slides/slide4.xml"/><Relationship Id="rId38" Type="http://schemas.openxmlformats.org/officeDocument/2006/relationships/slide" Target="slides/slide5.xml"/><Relationship Id="rId39" Type="http://schemas.openxmlformats.org/officeDocument/2006/relationships/slide" Target="slides/slide6.xml"/><Relationship Id="rId40" Type="http://schemas.openxmlformats.org/officeDocument/2006/relationships/slide" Target="slides/slide7.xml"/><Relationship Id="rId41" Type="http://schemas.openxmlformats.org/officeDocument/2006/relationships/slide" Target="slides/slide8.xml"/><Relationship Id="rId42" Type="http://schemas.openxmlformats.org/officeDocument/2006/relationships/slide" Target="slides/slide9.xml"/><Relationship Id="rId43" Type="http://schemas.openxmlformats.org/officeDocument/2006/relationships/slide" Target="slides/slide1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1998D-A8E3-4A56-B057-C56D50B97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D5590-DBF6-4582-AB3C-C1E71E7AC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69D55F-B75A-48A7-912C-9BBBDF5A07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A7087B-6304-4944-AC78-89380EDECB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341F6F-FF37-467B-99A4-3DDA3C2181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9AD936-FE92-4366-94B5-3CFFF16186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A1C7FF-0656-45F8-8D86-F3B6FDF2CA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2F7404-9110-4654-8DC0-F1627A1BA8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A5AC17-6135-4F5E-82B2-2B760EAA9D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891BF1-4476-4C05-B0EE-9447E9EB81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342B28-CC1C-467C-88DB-676EC82B69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CADE465-399D-4C14-8A83-2522CF6BC98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A39BA-5919-4E07-B069-C59314CB8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793C3B-8B8E-4422-A53B-8A9C01F219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1409A4-436B-45AF-9187-834F44A940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71ABC2-D7FB-475C-87DA-55E3992BE4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BA6128-9F61-4479-A22C-6FCC8274E1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503DB7-1D19-41C9-B242-2B697F851D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C7E10A-F0F1-4D6F-949C-83B6B675EB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409E26-CC91-4F00-B464-04ADA9A1B6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EC5EAD-2340-4F4B-A492-C06551FB75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339109-C1B8-4E7E-8E63-25D089DDB9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4091146-8B56-4AF8-8F33-05F1B8141BB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FBAF2-B77C-4007-86AA-C5A4E33BB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E8C30DF-56B1-4396-91FF-6D444BB8D73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8B14335-2F3B-4636-808B-5752B474D11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2B079A-A373-4D1D-A7DE-E18723AC03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1BECEB1-1BF5-4B9A-A48F-00E39B0291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8DAA33-DF06-4ACF-B695-943FB0B6C4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76AF0F-3A9A-4F44-A223-736B09C6A65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6A7B03-7DA9-4CCE-9DC0-008F56D540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4FAD80-19F3-4D54-8FB5-2CBA20F95F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35092A-A592-4A94-BF00-4616C5CD56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27964C-07BB-4CCD-A109-DE99C0EF8C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633F68-9718-4543-8408-242C23AAEF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862921-8E0D-4C7F-B9B9-D2899F1F06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FC95CF6-DA07-4655-8349-D662B86C96B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8183E2F-AA2B-420A-A092-A10ADC2731E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AFC4A43-8A16-49C9-AC02-447B3D90DEA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466CE27-ADB9-4974-A85B-A5DC8677C3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5A40523-432F-408D-A33E-C7365809814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293D2EC-EEF6-4A5F-AC36-35076F294FC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B4DA13-C13B-4031-A558-2041A50AF38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FB1CD8-2366-46DA-A0DB-E9645204FD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ADAAF67-B86C-49B5-878D-F930E2832E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95757-1603-44F5-B2FB-B1D6D6862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CF5F5E-F6FD-4435-8CE0-7D43FBBC50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3D090E-7403-4F0B-96DE-5D780BF19C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50AC457-6A10-4025-9A88-5CF9D935BFC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AFABF2F-4FA8-415C-A26A-B4A880AD41E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2C66138-9A29-4880-AD22-B4FCB1D8851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BB48072-6B67-4156-A2FE-CA5FFC23FEB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390360B-EF1B-4B9B-AA6E-F48ADFBC1F8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4D2351C-59F5-4E06-87D3-F5B62B375E8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359803E-C2C7-4CDD-B588-704D78FA171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EBEC724-6310-49C2-943B-4DBCC391441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BFC48-76AF-4339-B929-1C12A720A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7B293F5-532A-4DF5-9E2F-759287A58D5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76C4C3-6B7D-4AD1-9712-438492A7C0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02B1526-A387-4787-BAE7-7BDDE7A799B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059A91-65D2-4FB7-BB8E-FF3CCA01BE2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6FEBA7C-5784-4AC8-8DB6-68D5764815D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83114EA-6544-4110-93C6-1D8FA2713F5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A84C172-735C-455D-904C-EFC29F69DE3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D9364EA-873E-4886-BB65-4B2CB747E74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5FC0835-AF8E-4863-B798-94AE19904A7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B4FD4D8-1FEE-445D-98B4-C8D3AF43A89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F38C0-8E5A-4503-A05A-650290D77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1838C31-93B1-47AE-B8E2-38E18D7F910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79C9AAD-D307-4486-8EF5-0EFB22A604C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0004C1C-723C-472E-BA81-8B483C501E1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9476369-4580-402C-A136-9D06EF0CB9D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22058B6-B05B-434D-B749-DF367E78394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D426E1D-4C63-4125-86CB-EC4E36C4F8E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40CD4C5-CBE2-496A-8159-7979E0F9A5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5E1A255-AB58-4B3C-948D-9DC7F3A9CD6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725E0C5-84BB-46B3-9248-46EFD171880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3"/>
          </p:nvPr>
        </p:nvSpPr>
        <p:spPr/>
        <p:txBody>
          <a:bodyPr/>
          <a:p>
            <a:fld id="{481CA079-259B-465B-8517-CA3AA4C3F9D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10E3B-FB10-4701-A388-5F385C2CD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3"/>
          </p:nvPr>
        </p:nvSpPr>
        <p:spPr/>
        <p:txBody>
          <a:bodyPr/>
          <a:p>
            <a:fld id="{1125239B-A6CB-4B0A-BB35-7163FEBA6B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3"/>
          </p:nvPr>
        </p:nvSpPr>
        <p:spPr/>
        <p:txBody>
          <a:bodyPr/>
          <a:p>
            <a:fld id="{4889C0FB-172C-48A5-B356-0DF9638B17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3"/>
          </p:nvPr>
        </p:nvSpPr>
        <p:spPr/>
        <p:txBody>
          <a:bodyPr/>
          <a:p>
            <a:fld id="{539128BB-DB58-435C-A4E8-EFD9FAC1BF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3"/>
          </p:nvPr>
        </p:nvSpPr>
        <p:spPr/>
        <p:txBody>
          <a:bodyPr/>
          <a:p>
            <a:fld id="{E8218952-6B21-42F9-B1AF-367B90FD11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3"/>
          </p:nvPr>
        </p:nvSpPr>
        <p:spPr/>
        <p:txBody>
          <a:bodyPr/>
          <a:p>
            <a:fld id="{ECD30748-B933-44CA-83EB-B0DDDA4B6E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26B4EEE6-4EA8-4B92-885E-63F195BA9B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E91DFF4D-17EB-4704-9AC3-3ACAF3E4C0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82367D72-5373-46AC-BBC1-EBF4581557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3"/>
          </p:nvPr>
        </p:nvSpPr>
        <p:spPr/>
        <p:txBody>
          <a:bodyPr/>
          <a:p>
            <a:fld id="{BFF71373-1691-4CE0-934D-FFDC11BE2D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3"/>
          </p:nvPr>
        </p:nvSpPr>
        <p:spPr/>
        <p:txBody>
          <a:bodyPr/>
          <a:p>
            <a:fld id="{75A30A1B-A8C0-4A41-BE95-4BF869E7590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9CA86-4A8C-45D8-B607-97B8C2F54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3"/>
          </p:nvPr>
        </p:nvSpPr>
        <p:spPr/>
        <p:txBody>
          <a:bodyPr/>
          <a:p>
            <a:fld id="{FA0B457E-DB42-4C45-A133-B300BCB243F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6"/>
          </p:nvPr>
        </p:nvSpPr>
        <p:spPr/>
        <p:txBody>
          <a:bodyPr/>
          <a:p>
            <a:fld id="{0E1D68A1-5165-4723-8098-1D123E43377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6"/>
          </p:nvPr>
        </p:nvSpPr>
        <p:spPr/>
        <p:txBody>
          <a:bodyPr/>
          <a:p>
            <a:fld id="{B0C21707-6DD1-41E0-BE44-1E52816FD9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6"/>
          </p:nvPr>
        </p:nvSpPr>
        <p:spPr/>
        <p:txBody>
          <a:bodyPr/>
          <a:p>
            <a:fld id="{EF3044B3-1887-497D-B8F8-F906B56D40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6"/>
          </p:nvPr>
        </p:nvSpPr>
        <p:spPr/>
        <p:txBody>
          <a:bodyPr/>
          <a:p>
            <a:fld id="{5E53486B-BAC6-46E2-A277-FBA44EC97E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6"/>
          </p:nvPr>
        </p:nvSpPr>
        <p:spPr/>
        <p:txBody>
          <a:bodyPr/>
          <a:p>
            <a:fld id="{DD052DD9-C7C0-4837-8D56-17EAFFAE37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6"/>
          </p:nvPr>
        </p:nvSpPr>
        <p:spPr/>
        <p:txBody>
          <a:bodyPr/>
          <a:p>
            <a:fld id="{E10F26CB-17BB-402A-834D-E263A1A708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6"/>
          </p:nvPr>
        </p:nvSpPr>
        <p:spPr/>
        <p:txBody>
          <a:bodyPr/>
          <a:p>
            <a:fld id="{66450050-6B1D-4222-A10F-E3362031A7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6"/>
          </p:nvPr>
        </p:nvSpPr>
        <p:spPr/>
        <p:txBody>
          <a:bodyPr/>
          <a:p>
            <a:fld id="{AB904871-3822-4D4E-9837-79B380DEA7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6"/>
          </p:nvPr>
        </p:nvSpPr>
        <p:spPr/>
        <p:txBody>
          <a:bodyPr/>
          <a:p>
            <a:fld id="{D2EBB885-CD4A-49A4-8FD7-62C82EFD97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E1F51-17CC-4369-8ACD-CFEBDE841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6"/>
          </p:nvPr>
        </p:nvSpPr>
        <p:spPr/>
        <p:txBody>
          <a:bodyPr/>
          <a:p>
            <a:fld id="{815937EA-336F-4DAA-B450-E03973FE53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6"/>
          </p:nvPr>
        </p:nvSpPr>
        <p:spPr/>
        <p:txBody>
          <a:bodyPr/>
          <a:p>
            <a:fld id="{3BE888E8-E7A4-4C46-A8FF-92C48DB932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6"/>
          </p:nvPr>
        </p:nvSpPr>
        <p:spPr/>
        <p:txBody>
          <a:bodyPr/>
          <a:p>
            <a:fld id="{54393331-A1B9-42FB-BB7D-23793572D94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CC84D81-8AD2-441A-B447-76DC052F15A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5B2FFB6-C71A-4E31-B02B-7297ECB77A5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111AC7E-0268-43BF-99E4-C53BC63DDC8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860747E-2E90-46C1-86AE-1D8CC0CC280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B7E693C-99F4-48D5-8C02-CA877B662A9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BB2C269-F9BB-4FCB-BA3B-23CA7D9B362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91827BF-4EAA-430C-9BFD-1D5792BD696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AB51D-8900-48B8-894C-38086344F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27192-4841-4BD7-8BD3-3D751D657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F9AF0F0-DDD8-47F7-9225-9E7F709BF86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EBF0322-63C5-4787-BEED-0093D13CA98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44A4EA5-0DD0-4B23-B4E6-323CCF73DF6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8F040D0-6039-4507-88D5-126172BEFF9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EB1C2F9-3CA6-452B-B2A7-D1BEA8BB2EC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2"/>
          </p:nvPr>
        </p:nvSpPr>
        <p:spPr/>
        <p:txBody>
          <a:bodyPr/>
          <a:p>
            <a:fld id="{062D69C9-49D8-4AD4-ACE0-16F10A648065}"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2"/>
          </p:nvPr>
        </p:nvSpPr>
        <p:spPr/>
        <p:txBody>
          <a:bodyPr/>
          <a:p>
            <a:fld id="{0789B44B-C0A2-4FA4-A1D6-D5E779617F7D}"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2"/>
          </p:nvPr>
        </p:nvSpPr>
        <p:spPr/>
        <p:txBody>
          <a:bodyPr/>
          <a:p>
            <a:fld id="{DC0D0785-FB9F-40A6-A380-B5993DD7882E}"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2"/>
          </p:nvPr>
        </p:nvSpPr>
        <p:spPr/>
        <p:txBody>
          <a:bodyPr/>
          <a:p>
            <a:fld id="{07544BA3-7898-4530-A87B-BA7203022878}"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2"/>
          </p:nvPr>
        </p:nvSpPr>
        <p:spPr/>
        <p:txBody>
          <a:bodyPr/>
          <a:p>
            <a:fld id="{85A32763-F289-455E-8533-6F6E7894F95C}"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2A1C0-7D9D-4129-A27D-2A063B92B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2"/>
          </p:nvPr>
        </p:nvSpPr>
        <p:spPr/>
        <p:txBody>
          <a:bodyPr/>
          <a:p>
            <a:fld id="{8C245011-3393-4627-B0CE-F97E3B8E271E}"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2"/>
          </p:nvPr>
        </p:nvSpPr>
        <p:spPr/>
        <p:txBody>
          <a:bodyPr/>
          <a:p>
            <a:fld id="{F2DAE9DA-F903-4452-BDC3-C1FB158237F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2"/>
          </p:nvPr>
        </p:nvSpPr>
        <p:spPr/>
        <p:txBody>
          <a:bodyPr/>
          <a:p>
            <a:fld id="{590E8130-219F-47EC-867E-A81427C0A03B}"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2"/>
          </p:nvPr>
        </p:nvSpPr>
        <p:spPr/>
        <p:txBody>
          <a:bodyPr/>
          <a:p>
            <a:fld id="{27C5FEDD-A7DC-47B1-A765-BD4580DF7692}"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2"/>
          </p:nvPr>
        </p:nvSpPr>
        <p:spPr/>
        <p:txBody>
          <a:bodyPr/>
          <a:p>
            <a:fld id="{F8B0BDAC-815B-4735-BDF1-9017A2155F7C}"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2"/>
          </p:nvPr>
        </p:nvSpPr>
        <p:spPr/>
        <p:txBody>
          <a:bodyPr/>
          <a:p>
            <a:fld id="{1774631C-B4FE-4C63-BF98-506AFB12B77C}"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2"/>
          </p:nvPr>
        </p:nvSpPr>
        <p:spPr/>
        <p:txBody>
          <a:bodyPr/>
          <a:p>
            <a:fld id="{5ADDDF85-D2EF-49C8-8E99-BD72D55BF93A}"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467F094-BAA1-42A5-B19A-E3D5197299A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2045E67-6FA7-44BE-812C-0BD889DA04D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AA43553-6FF6-4D3C-9C1B-E98745FCC82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CB5B5-FB71-4E36-B454-7E3CC8861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89301E9-AC7B-4A23-8B07-39C0AE5E20F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2D0C94E-094F-4821-A417-A70D9A8E522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E20A8C6-9498-4870-94E1-B7AFA7F716E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99FE138-F8CC-4CE9-9710-8E610AC61E9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1837B41-7115-4D4F-B6A9-6A018354777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FD4EABD-86CC-4E5B-AE46-FC2524EAC91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8396BE6-267B-40BF-B085-1ED1C43B2F5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FB105FE-3203-4899-8027-9B3528C64A6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27CB4C0-401B-4EA0-9E5F-851AC5DB3C2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D7F3915-0352-4578-BFB6-0CE373B4A71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E2734A-30E4-4C85-A221-C77CBC8477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BFBEB65-EA0B-4627-A343-1365A1FED64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D553B84-70E0-41A3-BF5A-DBD6B2F287B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BCDD054-C347-4654-A768-A1F9252DB1B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D9714E3-07CE-437A-8C5E-04431CAE89F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B4200CE-525E-44D9-8393-2D755B13CC4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DAF997C-0EF8-4A49-B64F-11FF4735D13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5AD504D-15B5-4ADD-B53E-00F5A3E6565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F3F58CF-7F56-436C-8412-A1053A162FB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0EB8E7B-17C1-4578-940C-DB0DA98E11E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67D2F08-55A3-4444-9422-FBCFC0FEA6D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3009B0-93A7-4CF0-9B8A-04D00E2F05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77BA2DF-4AEB-4054-8726-F2EFB589F9E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3"/>
          </p:nvPr>
        </p:nvSpPr>
        <p:spPr/>
        <p:txBody>
          <a:bodyPr/>
          <a:p>
            <a:fld id="{8D02DA5F-DC36-435E-8163-9FA293AC1C28}"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3"/>
          </p:nvPr>
        </p:nvSpPr>
        <p:spPr/>
        <p:txBody>
          <a:bodyPr/>
          <a:p>
            <a:fld id="{342FA465-902C-4267-9E1F-F9CA48D78499}"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3"/>
          </p:nvPr>
        </p:nvSpPr>
        <p:spPr/>
        <p:txBody>
          <a:bodyPr/>
          <a:p>
            <a:fld id="{EEF90A90-FA2B-4311-8B73-D47922EDDD73}"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3"/>
          </p:nvPr>
        </p:nvSpPr>
        <p:spPr/>
        <p:txBody>
          <a:bodyPr/>
          <a:p>
            <a:fld id="{292DBA2C-BD59-4516-8CD5-465C6BEFEF02}"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3"/>
          </p:nvPr>
        </p:nvSpPr>
        <p:spPr/>
        <p:txBody>
          <a:bodyPr/>
          <a:p>
            <a:fld id="{182DA17E-A6B8-476F-A773-E89B98A53146}"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3"/>
          </p:nvPr>
        </p:nvSpPr>
        <p:spPr/>
        <p:txBody>
          <a:bodyPr/>
          <a:p>
            <a:fld id="{AD0BF03B-24B7-4205-B0A2-709BD38EEDC8}"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3"/>
          </p:nvPr>
        </p:nvSpPr>
        <p:spPr/>
        <p:txBody>
          <a:bodyPr/>
          <a:p>
            <a:fld id="{E7EE5573-F66F-4C35-8B3A-0C611F4B2D3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3"/>
          </p:nvPr>
        </p:nvSpPr>
        <p:spPr/>
        <p:txBody>
          <a:bodyPr/>
          <a:p>
            <a:fld id="{F71C34CD-27BD-485F-AF17-7A7A66E00584}"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3"/>
          </p:nvPr>
        </p:nvSpPr>
        <p:spPr/>
        <p:txBody>
          <a:bodyPr/>
          <a:p>
            <a:fld id="{4D5648A9-BBC4-44FF-8553-19D54EEAF0B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C7C2F8-6B6D-44DD-9A0B-4F9B94C94F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3"/>
          </p:nvPr>
        </p:nvSpPr>
        <p:spPr/>
        <p:txBody>
          <a:bodyPr/>
          <a:p>
            <a:fld id="{451BF521-9975-4F9A-B302-334F65963462}"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3"/>
          </p:nvPr>
        </p:nvSpPr>
        <p:spPr/>
        <p:txBody>
          <a:bodyPr/>
          <a:p>
            <a:fld id="{70E5FE10-F1F3-46A9-9D5A-2A01E593A181}"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3"/>
          </p:nvPr>
        </p:nvSpPr>
        <p:spPr/>
        <p:txBody>
          <a:bodyPr/>
          <a:p>
            <a:fld id="{555589CD-B3B7-4700-B49B-E3F9B858D093}"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E82BB84-66E3-4004-A9B4-536213D340A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A70BFB6-19EB-468A-9C1C-29BB6001EA4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7BA6DAD-E5E3-4FC6-B0B2-F90BBE1B336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F6B0C8B-E748-462C-924C-837B301A104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ACB9FF9-7F22-43A3-B4A4-AE601731F35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5AB4922-F26A-437A-BB5D-7A7D7F54602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444DED7-FDF4-48D8-B126-412760AEE50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A43A2B-2D51-48FC-A4B4-05CD59A1A1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9806C5B-6108-4BA6-A665-075862C21E7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A62FB2A-B33C-4054-842D-DEEF33AD921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32E9DF9-8400-44D6-9EF6-9E9080CD522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906D7D9-7316-419B-9D6C-04A68F41414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E4823BD-C966-4D07-8CCE-A8CF886D285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AA4F1F2-56BC-47D5-B063-077DA371477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7F35CBC-858B-456C-84F6-B3A35E421E0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2661F1C-EC80-4DB9-B77B-0FB9EA84A3D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1E635EC-7F53-4E29-A5A8-BDD787B6948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A8702A5-F3BA-4005-A734-430D66EA607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71EF8E-0B81-43BE-904C-2E7612149A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738B05F-C044-4F59-BEAE-C9C226182D8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54C4386-5BF9-4B6C-AA97-3ED4FC7D98B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9949B7F-3DA0-4181-BFAB-C9E98F16D15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4BE4E06-BA04-493D-ACAE-E3C55C859C0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7610A82-D9C5-4064-AD61-A69F2135065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D9EEE9A-ADE3-43AB-9155-781457F4EE55}"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DE36254-4801-470D-A492-E4DC1B1FBBE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1D5252C7-93D6-44E4-99FA-E81769EEB4B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C8D802A-AD90-4E35-813C-9951E44933E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8F732EE-84A4-4350-A740-36D8D878973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5750C8-490D-43A5-BD00-FF93F8CA8D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14E4A20-D984-412A-9CB6-44754F3AC0C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0EF4CA4-382F-410B-9C65-0801299E46B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2F863F3-C9C1-4748-8093-EAD5ACE97E9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413B8D1-14F4-49E1-83A6-4A95B43253B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9362E03-8398-4407-BFFF-EC220E66D2B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A5B2356-125D-4C71-A91A-84F0CB83EFD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E1595E0-B62F-414B-BD50-489DE5306B6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52761A8-68F2-4850-B920-B1A88B4A39DF}"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DF56616-7A08-4EC9-AAB9-5BB34BFE42E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A112F392-18AD-46AB-98F3-CE277A9A4F9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5082AF-0646-4FF5-BD8B-9CCF327B27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97C5F82-616F-4959-A713-9DA115ACF36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E67E94B-B040-4822-9ED3-A982276E6B0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8E85A11-0037-494A-9175-94C7AF879AC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55C7058-A726-48EE-B221-F7CF8AD04A6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15B2187-5F6A-4FE5-A0B1-A01671386F0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96DA188-F310-4FFA-B3E4-C857707825A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44BC4C2-C26B-4860-BCF9-F3BEFCBF9C1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E884387-9B70-4F2A-8BC5-8585B26D3FE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1D9E7DD-C1AE-4B04-8E88-D1AFF83C076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F5910406-304B-47C6-B61F-784D9EAC0C18}"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4FF5A-5E58-4F92-9C89-82E8C1928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4DB570-80CC-4711-AB06-9DA01E12B1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86A7B4FB-CD39-44C9-B7D0-F455FFF3A3F3}"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6"/>
          </p:nvPr>
        </p:nvSpPr>
        <p:spPr/>
        <p:txBody>
          <a:bodyPr/>
          <a:p>
            <a:fld id="{33AD8F18-0636-474A-9072-13C0B9B1689F}"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6"/>
          </p:nvPr>
        </p:nvSpPr>
        <p:spPr/>
        <p:txBody>
          <a:bodyPr/>
          <a:p>
            <a:fld id="{142C0DAD-8CD4-40C4-B71D-D36C0335D46F}"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6"/>
          </p:nvPr>
        </p:nvSpPr>
        <p:spPr/>
        <p:txBody>
          <a:bodyPr/>
          <a:p>
            <a:fld id="{11096133-4B12-40C6-A967-1E53FF59EA6F}"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6"/>
          </p:nvPr>
        </p:nvSpPr>
        <p:spPr/>
        <p:txBody>
          <a:bodyPr/>
          <a:p>
            <a:fld id="{A83C6B97-91C6-4160-9DF3-60E432B4A987}"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6"/>
          </p:nvPr>
        </p:nvSpPr>
        <p:spPr/>
        <p:txBody>
          <a:bodyPr/>
          <a:p>
            <a:fld id="{36E5129F-7BAF-459C-B42D-B6E2ED1134DB}"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6"/>
          </p:nvPr>
        </p:nvSpPr>
        <p:spPr/>
        <p:txBody>
          <a:bodyPr/>
          <a:p>
            <a:fld id="{4AD73D2F-CB0F-4685-8F70-71F898FD86D3}"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6"/>
          </p:nvPr>
        </p:nvSpPr>
        <p:spPr/>
        <p:txBody>
          <a:bodyPr/>
          <a:p>
            <a:fld id="{DA362FCC-540C-4AB5-B456-AABEB062E0A9}"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6"/>
          </p:nvPr>
        </p:nvSpPr>
        <p:spPr/>
        <p:txBody>
          <a:bodyPr/>
          <a:p>
            <a:fld id="{46C8729C-493F-42B1-A9D6-FBC237F28706}"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6"/>
          </p:nvPr>
        </p:nvSpPr>
        <p:spPr/>
        <p:txBody>
          <a:bodyPr/>
          <a:p>
            <a:fld id="{5321AE92-4B6B-4CE7-A03F-A41FA95743D2}"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10550B-BB3A-4AED-9AB1-F46695687E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6"/>
          </p:nvPr>
        </p:nvSpPr>
        <p:spPr/>
        <p:txBody>
          <a:bodyPr/>
          <a:p>
            <a:fld id="{8F74D8B5-F159-44DD-85D0-5E1296F13B70}"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6"/>
          </p:nvPr>
        </p:nvSpPr>
        <p:spPr/>
        <p:txBody>
          <a:bodyPr/>
          <a:p>
            <a:fld id="{11977E5D-3E3A-4096-8D4B-C168C85CEF6A}" type="slidenum">
              <a:t>&lt;#&gt;</a:t>
            </a:fld>
          </a:p>
        </p:txBody>
      </p:sp>
      <p:sp>
        <p:nvSpPr>
          <p:cNvPr id="9" name="PlaceHolder 8"/>
          <p:cNvSpPr>
            <a:spLocks noGrp="1"/>
          </p:cNvSpPr>
          <p:nvPr>
            <p:ph type="dt" idx="77"/>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6"/>
          </p:nvPr>
        </p:nvSpPr>
        <p:spPr/>
        <p:txBody>
          <a:bodyPr/>
          <a:p>
            <a:fld id="{E238D8B8-96A6-429B-AB1A-A3D46D6FF16F}" type="slidenum">
              <a:t>&lt;#&gt;</a:t>
            </a:fld>
          </a:p>
        </p:txBody>
      </p:sp>
      <p:sp>
        <p:nvSpPr>
          <p:cNvPr id="11" name="PlaceHolder 10"/>
          <p:cNvSpPr>
            <a:spLocks noGrp="1"/>
          </p:cNvSpPr>
          <p:nvPr>
            <p:ph type="dt" idx="77"/>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79"/>
          </p:nvPr>
        </p:nvSpPr>
        <p:spPr/>
        <p:txBody>
          <a:bodyPr/>
          <a:p>
            <a:fld id="{A3C482D7-A6FD-477B-A4B2-F9CA87248366}"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79"/>
          </p:nvPr>
        </p:nvSpPr>
        <p:spPr/>
        <p:txBody>
          <a:bodyPr/>
          <a:p>
            <a:fld id="{3D57AE1B-F573-400E-B55D-E491AAB0D49E}"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79"/>
          </p:nvPr>
        </p:nvSpPr>
        <p:spPr/>
        <p:txBody>
          <a:bodyPr/>
          <a:p>
            <a:fld id="{80553BF4-FC39-4793-8A47-90D0934192AB}"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79"/>
          </p:nvPr>
        </p:nvSpPr>
        <p:spPr/>
        <p:txBody>
          <a:bodyPr/>
          <a:p>
            <a:fld id="{EE1F32EB-18D0-4065-AF05-96CF1F13042C}"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79"/>
          </p:nvPr>
        </p:nvSpPr>
        <p:spPr/>
        <p:txBody>
          <a:bodyPr/>
          <a:p>
            <a:fld id="{D125D364-A296-4568-B8C7-26CD7C05A5A1}"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79"/>
          </p:nvPr>
        </p:nvSpPr>
        <p:spPr/>
        <p:txBody>
          <a:bodyPr/>
          <a:p>
            <a:fld id="{481BF193-01F7-4A86-9EA5-D27CD122AF02}"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DB2CAA45-46DB-40CD-AA48-C8FCA147F5FC}"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A5D68A-20CA-48FE-9DE9-D3045919FE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DBD3BACE-8FD4-425C-9AB6-87DE97484779}"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2ADACFBB-380D-4942-B4B8-137E82099A13}"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79"/>
          </p:nvPr>
        </p:nvSpPr>
        <p:spPr/>
        <p:txBody>
          <a:bodyPr/>
          <a:p>
            <a:fld id="{9D99165B-8641-45BF-BAC8-80FD0BAEC556}"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79"/>
          </p:nvPr>
        </p:nvSpPr>
        <p:spPr/>
        <p:txBody>
          <a:bodyPr/>
          <a:p>
            <a:fld id="{D5F23EAB-F150-4BC4-8DAB-D465A122BA76}"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79"/>
          </p:nvPr>
        </p:nvSpPr>
        <p:spPr/>
        <p:txBody>
          <a:bodyPr/>
          <a:p>
            <a:fld id="{AACB7596-16CF-43ED-9C6B-75697B073E91}"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20BAA1BE-9BDB-4618-A4F1-FF3DA85F834E}"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AB0F0D5-FA54-4E6E-BF13-E0912A45AA2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75BEAB7-E0A4-4918-A5E5-05714C636BD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5C979DA-3F99-482F-8CFF-B104FB65D76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B115C89-4354-494E-BA8D-66D9DBC79E07}"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A1E23D-FE7F-4ABC-A489-7D923EC0BE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2A06856-911E-48C8-A2ED-A9F166EBD74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3129E55-247B-471D-919A-05670CF50AD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2E5CCBA-2047-4CA6-A075-13669A02112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70BA981-95CA-4AD9-A334-C531A81512D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75D464D-8A4C-4F63-A09B-61421136125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05E26414-594F-4A3A-9816-2E438C8A2EA7}"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39D6A268-9B04-4EF5-912E-F38EB210FC88}"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5"/>
          </p:nvPr>
        </p:nvSpPr>
        <p:spPr/>
        <p:txBody>
          <a:bodyPr/>
          <a:p>
            <a:fld id="{B75D16B1-8EE0-4D4A-B1C4-0F1EFEBD4CBC}" type="slidenum">
              <a:t>&lt;#&gt;</a:t>
            </a:fld>
          </a:p>
        </p:txBody>
      </p:sp>
      <p:sp>
        <p:nvSpPr>
          <p:cNvPr id="4" name="PlaceHolder 3"/>
          <p:cNvSpPr>
            <a:spLocks noGrp="1"/>
          </p:cNvSpPr>
          <p:nvPr>
            <p:ph type="dt" idx="86"/>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5"/>
          </p:nvPr>
        </p:nvSpPr>
        <p:spPr/>
        <p:txBody>
          <a:bodyPr/>
          <a:p>
            <a:fld id="{DC740950-6DDE-4447-9FAB-72C540C2903F}"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5"/>
          </p:nvPr>
        </p:nvSpPr>
        <p:spPr/>
        <p:txBody>
          <a:bodyPr/>
          <a:p>
            <a:fld id="{BD0283ED-6FEC-4FC6-BFB6-859D80789A95}"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B7821E-0EEA-46A7-8BD0-06192127EB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5"/>
          </p:nvPr>
        </p:nvSpPr>
        <p:spPr/>
        <p:txBody>
          <a:bodyPr/>
          <a:p>
            <a:fld id="{2C04FBD4-5816-45C9-B6AE-1F7FD6A9098A}"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5"/>
          </p:nvPr>
        </p:nvSpPr>
        <p:spPr/>
        <p:txBody>
          <a:bodyPr/>
          <a:p>
            <a:fld id="{B8689FEB-B7C0-49EE-8500-0AA013179730}"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5"/>
          </p:nvPr>
        </p:nvSpPr>
        <p:spPr/>
        <p:txBody>
          <a:bodyPr/>
          <a:p>
            <a:fld id="{582F3C67-332F-4747-9295-CD2BE8FC5A0E}"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5"/>
          </p:nvPr>
        </p:nvSpPr>
        <p:spPr/>
        <p:txBody>
          <a:bodyPr/>
          <a:p>
            <a:fld id="{08EA0EB7-9DEF-4A4D-AB51-C53700296AB8}"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5"/>
          </p:nvPr>
        </p:nvSpPr>
        <p:spPr/>
        <p:txBody>
          <a:bodyPr/>
          <a:p>
            <a:fld id="{A14F1D6E-2396-473C-B374-B120FCF27F53}"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5"/>
          </p:nvPr>
        </p:nvSpPr>
        <p:spPr/>
        <p:txBody>
          <a:bodyPr/>
          <a:p>
            <a:fld id="{53043540-E19D-4AFF-B8D0-3720A81C48A3}"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5"/>
          </p:nvPr>
        </p:nvSpPr>
        <p:spPr/>
        <p:txBody>
          <a:bodyPr/>
          <a:p>
            <a:fld id="{FB8B4C4A-25DA-4BBF-A5DF-8B587CA8B05D}"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5"/>
          </p:nvPr>
        </p:nvSpPr>
        <p:spPr/>
        <p:txBody>
          <a:bodyPr/>
          <a:p>
            <a:fld id="{2738D810-5F23-40FC-9325-8CA5E2E9B95D}" type="slidenum">
              <a:t>&lt;#&gt;</a:t>
            </a:fld>
          </a:p>
        </p:txBody>
      </p:sp>
      <p:sp>
        <p:nvSpPr>
          <p:cNvPr id="9" name="PlaceHolder 8"/>
          <p:cNvSpPr>
            <a:spLocks noGrp="1"/>
          </p:cNvSpPr>
          <p:nvPr>
            <p:ph type="dt" idx="86"/>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5"/>
          </p:nvPr>
        </p:nvSpPr>
        <p:spPr/>
        <p:txBody>
          <a:bodyPr/>
          <a:p>
            <a:fld id="{F36C30F9-E6DD-4661-9D7C-A6EEFDA83465}" type="slidenum">
              <a:t>&lt;#&gt;</a:t>
            </a:fld>
          </a:p>
        </p:txBody>
      </p:sp>
      <p:sp>
        <p:nvSpPr>
          <p:cNvPr id="11" name="PlaceHolder 10"/>
          <p:cNvSpPr>
            <a:spLocks noGrp="1"/>
          </p:cNvSpPr>
          <p:nvPr>
            <p:ph type="dt" idx="86"/>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6E524DE1-C249-4973-82A3-01DE4FAC18FD}"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0EAC1E-C98B-4024-9B65-FC4C0966CE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70223DD-43EF-4869-8811-83781F66584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F0D37C9-F298-4DF9-8B30-249ACE6F0D5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756D3A2-583C-4840-A638-7D30D051C2C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3D8D48B-9175-4270-83C5-327348E8449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C5501AAE-5689-4013-A8F1-CDB130E72DF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9ED3E1B-7647-48C4-A82F-697FBF9F33B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8501A3D-3751-4F2B-9DAF-6C4332DB748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43A2A7A-F625-4C0C-B085-33AC7C13B39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BDD8441-3602-4A5B-9299-39377AD784D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05A9DFCA-3352-4CC3-9338-87A4DEDEBC75}"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83038C-9235-4956-8B41-645DCD7AF4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C0AE7151-4413-4E3B-8F2F-E394AB2084F6}"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0CC3664A-E8DD-4231-9137-AD1F9B087613}"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2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A2B39FC-6982-46BA-A550-917C31D867D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2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17FFB094-E7FC-4644-B848-20D76ADEE1BC}"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40A9139-F492-4438-80D8-8FC32D8D2EB4}"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2BB07F7-7273-4D44-A7EB-7019B834F0BC}"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EEF62E8-ECA0-4D7F-86F5-56F6EA99381D}"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8561A3E-B435-4709-A9FB-B3897DDA53A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D251B0D-36CF-4D77-88B5-ED1733B5B60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E84D1D6-CB78-4A09-8795-F933AE4B543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9027F7-96E2-4010-934A-9B26A28039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4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2BFAB09D-C091-4B73-8D90-24E6EF8C3E75}"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24864563-F004-4190-A733-9247E2E012DC}"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5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8D2DDB62-B971-4583-9103-523F092BF803}"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DD19A02B-F9E4-4B1F-AF34-A8D1C1BBE792}"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00FBEFDF-A7E5-4581-9A14-FCCD2ECB9BF9}"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67EE4A8-8282-45BD-8950-AE0041B4AB9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0B7EA87-8F66-4ECD-A77A-673717563F57}"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F15AC2C2-64A9-4367-9E31-16E353A836E3}"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E2EFBF9A-631C-4A4B-AAE5-3714C19DA8C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FC97386-9CCE-4A7C-B922-5E93FF33B36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A5BC6A-9F6D-40AA-85A6-D35039FF26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3F64C16-1710-4A0A-9AC8-85E8687421A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DC47BDC-5191-448B-BA90-42F3674EAD3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70FCF2B-CE6E-471C-AAB5-7D64606A196E}"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D901FAD8-CA12-421A-A841-643C6AF3E193}"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E5C58EDF-2F96-4B4B-B56D-D286D15D4026}"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8302C2-6DA7-4991-B03C-2557150043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B4889-D431-4E7A-8CA9-3E6444E16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31E9C8-065C-435C-8B45-46E9417C38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AEAF6E-ADAD-4D95-8D11-E730049508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5A9E96-2EAE-4020-BBC4-912F92BA2F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CB2733-B45E-42F1-BA5D-8F9F36702F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7C81A0-A8FF-48E7-AA1E-31C592614D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A3197B-EA5D-4105-B871-15B5BFB8DE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E7B538-ADB5-434E-AD55-DD2AFE459D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426E3A-819A-4A18-802B-3E651A3A91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325E59-8BC3-4960-A37E-F01B3CED43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D25BC1-6899-4D41-92DE-7E6703DDB8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72747-5175-4BD6-9CB6-279EA488C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FA4055-C395-46B3-AF53-0314048E69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429CF8-33C0-4FEB-BC9C-9545FC1530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79C867-C68C-42E0-874D-D8809796D1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53EF4B-0D49-4844-87E0-6DB46BC8D4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D08835-CB3C-45F2-8C76-57C47F5671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23DBF3-1E02-4A01-AF66-D929DE2273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7ADC19-4778-4188-B038-8A7675D16A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0265A9-ECD6-446F-9BC6-A182D5DE74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D50584-AB13-4DCD-AD38-B7F7485C0F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17ED4F-B16E-427D-A695-5546F15ECB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E9B92-9193-4A69-8122-BAF2258EF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37097B-8805-426E-8DE7-715A5FFECE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34AA41-DE7E-4554-BEE6-B5764034F6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FA49BB-F510-4F22-82DC-5B248B635C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8DED24-B66C-4C71-8883-12CF66D465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E2AF25-7CAD-4278-A1FB-98038850FA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C55E27-F8DD-452D-B3F8-C3484F6371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BD6429-80C9-4633-958B-1D02ADAEEF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9B2A2E-18B2-4579-98D8-3275DE6E55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BBAFC4-97E4-4CC8-AC0D-1B9C3D523F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23768C-AE3B-443A-9BA9-D9989CDC08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1FFD4-BEB7-47DF-A67E-AFAFBA6B0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15808E-1B1C-484D-AC04-12D67A326E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C6DEB6-7696-4332-A577-2A2121AFE6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646746-9BA4-4235-A4F9-2D7092E092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48F5C0-7111-4F6C-B892-B889EC18D9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C69F48-A208-46EB-A3D8-8C6BB3841F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71A96B-B144-445C-972D-0088EBA8E3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2C1248-DB4A-4BE1-BECB-3EBA81084C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018EED-32E9-4239-BC87-DAA3147352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AF4985-9226-4EDB-975F-BC0BF0DE08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24D3FF-BFA0-465F-80A0-C470E27D4B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2670B-5214-414C-8A2A-5009DD171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CF535C-7837-4436-A3D8-B4DCAC0BC1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F268B8-4922-4994-A1B8-215CBE2982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FAA10C-605F-4B9D-82D4-9E69DCF1E1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24D307-0C0D-4CE3-A54E-A96B15F97B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EF8C6F-28A2-4BC6-AB37-97DB09F47D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3D01D8-7ADA-4278-B72E-749F8D4DF6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6BC626-AE76-4E36-A94F-91ACDD39FD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BC4F39-00AE-4AF8-A39A-15DCE569D4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FD8E25-647D-4F65-B126-644B55DE3D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D42068-6D26-43A7-8195-568FBBE30A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8C159-50DA-44EF-8841-A8EFE18E8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937E13-D1AF-434C-A984-D8A33DB16B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6B9DD1-8D36-43E7-983A-24722F36AB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26EA63-D1E8-48A5-9C50-07819BE6E7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3C39D6-C8C2-435C-A420-A7E63EE76E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228F82-54A4-4E02-953B-F989439663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BE820E-895B-4050-9AF6-76DE23C441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3CB4A8-3FDD-4235-AE34-A46C972C42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487B6D-2531-409E-9143-0F55806EA6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C02B5A-D5BB-4BF9-86D0-DF7F7B1319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941764-9794-4A82-A3A6-EDE99110224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87EEB-3616-4E31-B8DC-F715B264B31E}"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46"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4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48"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49"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50"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51" name="Rectangle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52"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53" name="Straight Connector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454"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55" name="Oval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5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58" name="PlaceHolder 3"/>
          <p:cNvSpPr>
            <a:spLocks noGrp="1"/>
          </p:cNvSpPr>
          <p:nvPr>
            <p:ph type="ftr" idx="2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59" name="PlaceHolder 4"/>
          <p:cNvSpPr>
            <a:spLocks noGrp="1"/>
          </p:cNvSpPr>
          <p:nvPr>
            <p:ph type="dt" idx="2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0" name="PlaceHolder 5"/>
          <p:cNvSpPr>
            <a:spLocks noGrp="1"/>
          </p:cNvSpPr>
          <p:nvPr>
            <p:ph type="sldNum" idx="30"/>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AE2E9-CB01-4A52-8912-FAF88999C80B}"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49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9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9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0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01"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02"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03"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50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05"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06"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5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0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09" name="PlaceHolder 3"/>
          <p:cNvSpPr>
            <a:spLocks noGrp="1"/>
          </p:cNvSpPr>
          <p:nvPr>
            <p:ph type="dt" idx="31"/>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0"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1"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0B53-BFA4-4E68-9FA6-7DC89A3AAF78}"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48"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549"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50"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51"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52"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53" name="Rectangle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54" name="Rectangle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55" name="Straight Connector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556" name="Rectangle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57"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58" name="Oval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1" name="PlaceHolder 3"/>
          <p:cNvSpPr>
            <a:spLocks noGrp="1"/>
          </p:cNvSpPr>
          <p:nvPr>
            <p:ph type="dt" idx="3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2" name="PlaceHolder 4"/>
          <p:cNvSpPr>
            <a:spLocks noGrp="1"/>
          </p:cNvSpPr>
          <p:nvPr>
            <p:ph type="ftr" idx="35"/>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63" name="PlaceHolder 5"/>
          <p:cNvSpPr>
            <a:spLocks noGrp="1"/>
          </p:cNvSpPr>
          <p:nvPr>
            <p:ph type="sldNum" idx="36"/>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C280-E2B9-47A0-BB6C-5DFA80787361}"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6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1" name="PlaceHolder 3"/>
          <p:cNvSpPr>
            <a:spLocks noGrp="1"/>
          </p:cNvSpPr>
          <p:nvPr>
            <p:ph type="dt" idx="3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12" name="PlaceHolder 4"/>
          <p:cNvSpPr>
            <a:spLocks noGrp="1"/>
          </p:cNvSpPr>
          <p:nvPr>
            <p:ph type="ftr" idx="3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13" name="PlaceHolder 5"/>
          <p:cNvSpPr>
            <a:spLocks noGrp="1"/>
          </p:cNvSpPr>
          <p:nvPr>
            <p:ph type="sldNum" idx="39"/>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5F5E7-3D04-4168-B6E3-2E733D4C1905}"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1"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2"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3"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4"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5" name="Rectangle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5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58"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59"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60" name="PlaceHolder 5"/>
          <p:cNvSpPr>
            <a:spLocks noGrp="1"/>
          </p:cNvSpPr>
          <p:nvPr>
            <p:ph type="sldNum" idx="42"/>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B44A-2377-443D-A49F-D7DAC0BE6A20}" type="slidenum">
              <a:rPr b="0" lang="en-A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98"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99"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00"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01"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02"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03"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04" name="Straight Connector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705"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06"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07"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0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10" name="PlaceHolder 3"/>
          <p:cNvSpPr>
            <a:spLocks noGrp="1"/>
          </p:cNvSpPr>
          <p:nvPr>
            <p:ph type="sldNum" idx="43"/>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61A8-1E6C-49D9-858C-64DEB1087A09}"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711" name="PlaceHolder 4"/>
          <p:cNvSpPr>
            <a:spLocks noGrp="1"/>
          </p:cNvSpPr>
          <p:nvPr>
            <p:ph type="dt" idx="4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712" name="PlaceHolder 5"/>
          <p:cNvSpPr>
            <a:spLocks noGrp="1"/>
          </p:cNvSpPr>
          <p:nvPr>
            <p:ph type="ftr" idx="45"/>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750"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51"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52"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53"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54" name="Rectangle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55" name="Rectangle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56"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57"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58"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59"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6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62" name="PlaceHolder 3"/>
          <p:cNvSpPr>
            <a:spLocks noGrp="1"/>
          </p:cNvSpPr>
          <p:nvPr>
            <p:ph type="sldNum" idx="46"/>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F1F94-EB41-42C8-9B47-54DFD32396AC}"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763" name="PlaceHolder 4"/>
          <p:cNvSpPr>
            <a:spLocks noGrp="1"/>
          </p:cNvSpPr>
          <p:nvPr>
            <p:ph type="dt" idx="47"/>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764" name="PlaceHolder 5"/>
          <p:cNvSpPr>
            <a:spLocks noGrp="1"/>
          </p:cNvSpPr>
          <p:nvPr>
            <p:ph type="ftr" idx="48"/>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0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0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0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0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05"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06"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07"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808"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09"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1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12" name="PlaceHolder 3"/>
          <p:cNvSpPr>
            <a:spLocks noGrp="1"/>
          </p:cNvSpPr>
          <p:nvPr>
            <p:ph type="dt" idx="4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813" name="PlaceHolder 4"/>
          <p:cNvSpPr>
            <a:spLocks noGrp="1"/>
          </p:cNvSpPr>
          <p:nvPr>
            <p:ph type="ftr" idx="5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14" name="PlaceHolder 5"/>
          <p:cNvSpPr>
            <a:spLocks noGrp="1"/>
          </p:cNvSpPr>
          <p:nvPr>
            <p:ph type="sldNum" idx="51"/>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CAD06-6AFE-48E4-8E58-5D2D88ECD498}"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51"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52"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53"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54"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55"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56" name="Rectangle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57" name="Straight Connector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858"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59" name="Oval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6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62" name="PlaceHolder 3"/>
          <p:cNvSpPr>
            <a:spLocks noGrp="1"/>
          </p:cNvSpPr>
          <p:nvPr>
            <p:ph type="sldNum" idx="52"/>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084EC-08C5-430A-A7CB-5D6F5542ED83}"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863" name="PlaceHolder 4"/>
          <p:cNvSpPr>
            <a:spLocks noGrp="1"/>
          </p:cNvSpPr>
          <p:nvPr>
            <p:ph type="dt" idx="53"/>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864" name="PlaceHolder 5"/>
          <p:cNvSpPr>
            <a:spLocks noGrp="1"/>
          </p:cNvSpPr>
          <p:nvPr>
            <p:ph type="ftr" idx="5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01"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02"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03"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04"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05"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06" name="Straight Connector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90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08"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09" name="Oval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91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12" name="PlaceHolder 3"/>
          <p:cNvSpPr>
            <a:spLocks noGrp="1"/>
          </p:cNvSpPr>
          <p:nvPr>
            <p:ph type="dt" idx="5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913" name="PlaceHolder 4"/>
          <p:cNvSpPr>
            <a:spLocks noGrp="1"/>
          </p:cNvSpPr>
          <p:nvPr>
            <p:ph type="ftr" idx="5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14" name="PlaceHolder 5"/>
          <p:cNvSpPr>
            <a:spLocks noGrp="1"/>
          </p:cNvSpPr>
          <p:nvPr>
            <p:ph type="sldNum" idx="57"/>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8E557-E3CC-4269-94E1-00FDC9120E0E}"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5" name="PlaceHolder 1"/>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 name="PlaceHolder 2"/>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5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1" name="PlaceHolder 3"/>
          <p:cNvSpPr>
            <a:spLocks noGrp="1"/>
          </p:cNvSpPr>
          <p:nvPr>
            <p:ph type="sldNum" idx="6"/>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C1EF6-BDB3-4991-AB69-0CB2FC0E2530}"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6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5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5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5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5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55"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56"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57"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958"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59"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96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62" name="PlaceHolder 3"/>
          <p:cNvSpPr>
            <a:spLocks noGrp="1"/>
          </p:cNvSpPr>
          <p:nvPr>
            <p:ph type="dt" idx="58"/>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963" name="PlaceHolder 4"/>
          <p:cNvSpPr>
            <a:spLocks noGrp="1"/>
          </p:cNvSpPr>
          <p:nvPr>
            <p:ph type="ftr" idx="5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64" name="PlaceHolder 5"/>
          <p:cNvSpPr>
            <a:spLocks noGrp="1"/>
          </p:cNvSpPr>
          <p:nvPr>
            <p:ph type="sldNum" idx="60"/>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02872-CE64-4296-A94D-5E3AD5373A67}"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02"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03"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04"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05"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06"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07" name="Rectangle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08"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09" name="Straight Connector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010"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1" name="Oval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14" name="PlaceHolder 3"/>
          <p:cNvSpPr>
            <a:spLocks noGrp="1"/>
          </p:cNvSpPr>
          <p:nvPr>
            <p:ph type="ftr" idx="6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5" name="PlaceHolder 4"/>
          <p:cNvSpPr>
            <a:spLocks noGrp="1"/>
          </p:cNvSpPr>
          <p:nvPr>
            <p:ph type="dt" idx="6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016" name="PlaceHolder 5"/>
          <p:cNvSpPr>
            <a:spLocks noGrp="1"/>
          </p:cNvSpPr>
          <p:nvPr>
            <p:ph type="sldNum" idx="63"/>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ABE18-70DE-4385-A446-858BAD48CA38}"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53"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54"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55"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56"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57"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58"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59"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06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61"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62"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0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6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65" name="PlaceHolder 3"/>
          <p:cNvSpPr>
            <a:spLocks noGrp="1"/>
          </p:cNvSpPr>
          <p:nvPr>
            <p:ph type="dt" idx="64"/>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066" name="PlaceHolder 4"/>
          <p:cNvSpPr>
            <a:spLocks noGrp="1"/>
          </p:cNvSpPr>
          <p:nvPr>
            <p:ph type="ftr" idx="6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67" name="PlaceHolder 5"/>
          <p:cNvSpPr>
            <a:spLocks noGrp="1"/>
          </p:cNvSpPr>
          <p:nvPr>
            <p:ph type="sldNum" idx="66"/>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8EF9-6CB8-4739-BAA9-107AD2928BC7}"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104"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105"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06"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07"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08"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09" name="Rectangle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10" name="Rectangle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11" name="Straight Connector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112" name="Rectangle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13"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14" name="Oval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7" name="PlaceHolder 3"/>
          <p:cNvSpPr>
            <a:spLocks noGrp="1"/>
          </p:cNvSpPr>
          <p:nvPr>
            <p:ph type="dt" idx="6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18" name="PlaceHolder 4"/>
          <p:cNvSpPr>
            <a:spLocks noGrp="1"/>
          </p:cNvSpPr>
          <p:nvPr>
            <p:ph type="ftr" idx="68"/>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19" name="PlaceHolder 5"/>
          <p:cNvSpPr>
            <a:spLocks noGrp="1"/>
          </p:cNvSpPr>
          <p:nvPr>
            <p:ph type="sldNum" idx="69"/>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37307-5DBA-4CA8-A091-4189D0F5FE56}"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5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5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16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67" name="PlaceHolder 3"/>
          <p:cNvSpPr>
            <a:spLocks noGrp="1"/>
          </p:cNvSpPr>
          <p:nvPr>
            <p:ph type="dt" idx="70"/>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68" name="PlaceHolder 4"/>
          <p:cNvSpPr>
            <a:spLocks noGrp="1"/>
          </p:cNvSpPr>
          <p:nvPr>
            <p:ph type="ftr" idx="7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9" name="PlaceHolder 5"/>
          <p:cNvSpPr>
            <a:spLocks noGrp="1"/>
          </p:cNvSpPr>
          <p:nvPr>
            <p:ph type="sldNum" idx="72"/>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09DBD-217A-47FC-BC17-CBCE3FF09506}"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07"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08"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0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10"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11" name="Rectangle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214" name="PlaceHolder 3"/>
          <p:cNvSpPr>
            <a:spLocks noGrp="1"/>
          </p:cNvSpPr>
          <p:nvPr>
            <p:ph type="dt" idx="73"/>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215" name="PlaceHolder 4"/>
          <p:cNvSpPr>
            <a:spLocks noGrp="1"/>
          </p:cNvSpPr>
          <p:nvPr>
            <p:ph type="ftr" idx="7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16" name="PlaceHolder 5"/>
          <p:cNvSpPr>
            <a:spLocks noGrp="1"/>
          </p:cNvSpPr>
          <p:nvPr>
            <p:ph type="sldNum" idx="75"/>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ED236-D7F9-4901-A1A3-47FE5ACFCA98}" type="slidenum">
              <a:rPr b="0" lang="en-A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54"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55"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56"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57"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58"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59"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60" name="Straight Connector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261"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62"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63"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266" name="PlaceHolder 3"/>
          <p:cNvSpPr>
            <a:spLocks noGrp="1"/>
          </p:cNvSpPr>
          <p:nvPr>
            <p:ph type="sldNum" idx="76"/>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C092F-E9F9-4581-8826-022678B24CCE}"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67" name="PlaceHolder 4"/>
          <p:cNvSpPr>
            <a:spLocks noGrp="1"/>
          </p:cNvSpPr>
          <p:nvPr>
            <p:ph type="dt" idx="7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268" name="PlaceHolder 5"/>
          <p:cNvSpPr>
            <a:spLocks noGrp="1"/>
          </p:cNvSpPr>
          <p:nvPr>
            <p:ph type="ftr" idx="78"/>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306"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0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08"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09"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10" name="Rectangle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11" name="Rectangle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12"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13"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14"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15"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1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318" name="PlaceHolder 3"/>
          <p:cNvSpPr>
            <a:spLocks noGrp="1"/>
          </p:cNvSpPr>
          <p:nvPr>
            <p:ph type="sldNum" idx="79"/>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2BC13-6DD6-4292-A4C0-9FD983A79534}"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319" name="PlaceHolder 4"/>
          <p:cNvSpPr>
            <a:spLocks noGrp="1"/>
          </p:cNvSpPr>
          <p:nvPr>
            <p:ph type="dt" idx="80"/>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320" name="PlaceHolder 5"/>
          <p:cNvSpPr>
            <a:spLocks noGrp="1"/>
          </p:cNvSpPr>
          <p:nvPr>
            <p:ph type="ftr" idx="81"/>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35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5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5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6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61"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62"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63"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36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65"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6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368" name="PlaceHolder 3"/>
          <p:cNvSpPr>
            <a:spLocks noGrp="1"/>
          </p:cNvSpPr>
          <p:nvPr>
            <p:ph type="dt" idx="8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369" name="PlaceHolder 4"/>
          <p:cNvSpPr>
            <a:spLocks noGrp="1"/>
          </p:cNvSpPr>
          <p:nvPr>
            <p:ph type="ftr" idx="8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70" name="PlaceHolder 5"/>
          <p:cNvSpPr>
            <a:spLocks noGrp="1"/>
          </p:cNvSpPr>
          <p:nvPr>
            <p:ph type="sldNum" idx="84"/>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998C4-2D24-446F-BE73-A84D3DFE584D}"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40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08"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09"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1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11"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12" name="Rectangle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13" name="Straight Connector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414"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15" name="Oval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41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418" name="PlaceHolder 3"/>
          <p:cNvSpPr>
            <a:spLocks noGrp="1"/>
          </p:cNvSpPr>
          <p:nvPr>
            <p:ph type="sldNum" idx="85"/>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162B-CD9B-43A0-B56A-46C49383F4FC}"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419" name="PlaceHolder 4"/>
          <p:cNvSpPr>
            <a:spLocks noGrp="1"/>
          </p:cNvSpPr>
          <p:nvPr>
            <p:ph type="dt" idx="8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420" name="PlaceHolder 5"/>
          <p:cNvSpPr>
            <a:spLocks noGrp="1"/>
          </p:cNvSpPr>
          <p:nvPr>
            <p:ph type="ftr" idx="87"/>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5" name="PlaceHolder 1"/>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06" name="PlaceHolder 2"/>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1" name="PlaceHolder 3"/>
          <p:cNvSpPr>
            <a:spLocks noGrp="1"/>
          </p:cNvSpPr>
          <p:nvPr>
            <p:ph type="sldNum" idx="9"/>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E57B8-84F2-472A-B363-2B8203D616C9}"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7"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458"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459" name="Group 1"/>
          <p:cNvGrpSpPr/>
          <p:nvPr/>
        </p:nvGrpSpPr>
        <p:grpSpPr>
          <a:xfrm>
            <a:off x="-19080" y="203040"/>
            <a:ext cx="9181080" cy="648000"/>
            <a:chOff x="-19080" y="203040"/>
            <a:chExt cx="9181080" cy="648000"/>
          </a:xfrm>
        </p:grpSpPr>
        <p:grpSp>
          <p:nvGrpSpPr>
            <p:cNvPr id="1460" name="Freeform 11"/>
            <p:cNvGrpSpPr/>
            <p:nvPr/>
          </p:nvGrpSpPr>
          <p:grpSpPr>
            <a:xfrm>
              <a:off x="-19080" y="203040"/>
              <a:ext cx="9162720" cy="648000"/>
              <a:chOff x="-19080" y="203040"/>
              <a:chExt cx="9162720" cy="648000"/>
            </a:xfrm>
          </p:grpSpPr>
          <p:pic>
            <p:nvPicPr>
              <p:cNvPr id="1461" name="Freeform 11" descr=""/>
              <p:cNvPicPr/>
              <p:nvPr/>
            </p:nvPicPr>
            <p:blipFill>
              <a:blip r:embed="rId3"/>
              <a:stretch/>
            </p:blipFill>
            <p:spPr>
              <a:xfrm>
                <a:off x="3960" y="203040"/>
                <a:ext cx="9139680" cy="648000"/>
              </a:xfrm>
              <a:prstGeom prst="rect">
                <a:avLst/>
              </a:prstGeom>
              <a:ln w="0">
                <a:noFill/>
              </a:ln>
            </p:spPr>
          </p:pic>
          <p:sp>
            <p:nvSpPr>
              <p:cNvPr id="1462"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463" name="Freeform 12"/>
            <p:cNvGrpSpPr/>
            <p:nvPr/>
          </p:nvGrpSpPr>
          <p:grpSpPr>
            <a:xfrm>
              <a:off x="-19080" y="248040"/>
              <a:ext cx="9181080" cy="565200"/>
              <a:chOff x="-19080" y="248040"/>
              <a:chExt cx="9181080" cy="565200"/>
            </a:xfrm>
          </p:grpSpPr>
          <p:pic>
            <p:nvPicPr>
              <p:cNvPr id="1464" name="Freeform 12" descr=""/>
              <p:cNvPicPr/>
              <p:nvPr/>
            </p:nvPicPr>
            <p:blipFill>
              <a:blip r:embed="rId4"/>
              <a:stretch/>
            </p:blipFill>
            <p:spPr>
              <a:xfrm>
                <a:off x="-3240" y="248040"/>
                <a:ext cx="9165240" cy="565200"/>
              </a:xfrm>
              <a:prstGeom prst="rect">
                <a:avLst/>
              </a:prstGeom>
              <a:ln w="0">
                <a:noFill/>
              </a:ln>
            </p:spPr>
          </p:pic>
          <p:sp>
            <p:nvSpPr>
              <p:cNvPr id="1465"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4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468" name="PlaceHolder 3"/>
          <p:cNvSpPr>
            <a:spLocks noGrp="1"/>
          </p:cNvSpPr>
          <p:nvPr>
            <p:ph type="dt" idx="8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469" name="PlaceHolder 4"/>
          <p:cNvSpPr>
            <a:spLocks noGrp="1"/>
          </p:cNvSpPr>
          <p:nvPr>
            <p:ph type="ftr" idx="8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70" name="PlaceHolder 5"/>
          <p:cNvSpPr>
            <a:spLocks noGrp="1"/>
          </p:cNvSpPr>
          <p:nvPr>
            <p:ph type="sldNum" idx="9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73E2A-4F08-4B09-BB27-BC0200F9533F}"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7"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08"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509" name="Group 1"/>
          <p:cNvGrpSpPr/>
          <p:nvPr/>
        </p:nvGrpSpPr>
        <p:grpSpPr>
          <a:xfrm>
            <a:off x="-19080" y="203040"/>
            <a:ext cx="9181080" cy="648000"/>
            <a:chOff x="-19080" y="203040"/>
            <a:chExt cx="9181080" cy="648000"/>
          </a:xfrm>
        </p:grpSpPr>
        <p:grpSp>
          <p:nvGrpSpPr>
            <p:cNvPr id="1510" name="Freeform 11"/>
            <p:cNvGrpSpPr/>
            <p:nvPr/>
          </p:nvGrpSpPr>
          <p:grpSpPr>
            <a:xfrm>
              <a:off x="-19080" y="203040"/>
              <a:ext cx="9162720" cy="648000"/>
              <a:chOff x="-19080" y="203040"/>
              <a:chExt cx="9162720" cy="648000"/>
            </a:xfrm>
          </p:grpSpPr>
          <p:pic>
            <p:nvPicPr>
              <p:cNvPr id="1511" name="Freeform 11" descr=""/>
              <p:cNvPicPr/>
              <p:nvPr/>
            </p:nvPicPr>
            <p:blipFill>
              <a:blip r:embed="rId3"/>
              <a:stretch/>
            </p:blipFill>
            <p:spPr>
              <a:xfrm>
                <a:off x="3960" y="203040"/>
                <a:ext cx="9139680" cy="648000"/>
              </a:xfrm>
              <a:prstGeom prst="rect">
                <a:avLst/>
              </a:prstGeom>
              <a:ln w="0">
                <a:noFill/>
              </a:ln>
            </p:spPr>
          </p:pic>
          <p:sp>
            <p:nvSpPr>
              <p:cNvPr id="1512"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513" name="Freeform 12"/>
            <p:cNvGrpSpPr/>
            <p:nvPr/>
          </p:nvGrpSpPr>
          <p:grpSpPr>
            <a:xfrm>
              <a:off x="-19080" y="248040"/>
              <a:ext cx="9181080" cy="565200"/>
              <a:chOff x="-19080" y="248040"/>
              <a:chExt cx="9181080" cy="565200"/>
            </a:xfrm>
          </p:grpSpPr>
          <p:pic>
            <p:nvPicPr>
              <p:cNvPr id="1514" name="Freeform 12" descr=""/>
              <p:cNvPicPr/>
              <p:nvPr/>
            </p:nvPicPr>
            <p:blipFill>
              <a:blip r:embed="rId4"/>
              <a:stretch/>
            </p:blipFill>
            <p:spPr>
              <a:xfrm>
                <a:off x="-3240" y="248040"/>
                <a:ext cx="9165240" cy="565200"/>
              </a:xfrm>
              <a:prstGeom prst="rect">
                <a:avLst/>
              </a:prstGeom>
              <a:ln w="0">
                <a:noFill/>
              </a:ln>
            </p:spPr>
          </p:pic>
          <p:sp>
            <p:nvSpPr>
              <p:cNvPr id="1515"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51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518" name="PlaceHolder 3"/>
          <p:cNvSpPr>
            <a:spLocks noGrp="1"/>
          </p:cNvSpPr>
          <p:nvPr>
            <p:ph type="dt" idx="9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519" name="PlaceHolder 4"/>
          <p:cNvSpPr>
            <a:spLocks noGrp="1"/>
          </p:cNvSpPr>
          <p:nvPr>
            <p:ph type="ftr" idx="9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0" name="PlaceHolder 5"/>
          <p:cNvSpPr>
            <a:spLocks noGrp="1"/>
          </p:cNvSpPr>
          <p:nvPr>
            <p:ph type="sldNum" idx="9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5E123-085A-48E2-A5AA-2CE59E9732A2}"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7"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8"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9"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60"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3" name="PlaceHolder 3"/>
          <p:cNvSpPr>
            <a:spLocks noGrp="1"/>
          </p:cNvSpPr>
          <p:nvPr>
            <p:ph type="dt" idx="9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64" name="PlaceHolder 4"/>
          <p:cNvSpPr>
            <a:spLocks noGrp="1"/>
          </p:cNvSpPr>
          <p:nvPr>
            <p:ph type="ftr" idx="9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5" name="PlaceHolder 5"/>
          <p:cNvSpPr>
            <a:spLocks noGrp="1"/>
          </p:cNvSpPr>
          <p:nvPr>
            <p:ph type="sldNum" idx="9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B68D2-8EE2-4386-BBA0-346EBE6D3332}"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4"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5"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C458E-6949-4821-B1CC-110664BB30DD}"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157" name="Group 1"/>
          <p:cNvGrpSpPr/>
          <p:nvPr/>
        </p:nvGrpSpPr>
        <p:grpSpPr>
          <a:xfrm>
            <a:off x="-19080" y="203040"/>
            <a:ext cx="9181080" cy="648000"/>
            <a:chOff x="-19080" y="203040"/>
            <a:chExt cx="9181080" cy="648000"/>
          </a:xfrm>
        </p:grpSpPr>
        <p:grpSp>
          <p:nvGrpSpPr>
            <p:cNvPr id="158" name="Freeform 11"/>
            <p:cNvGrpSpPr/>
            <p:nvPr/>
          </p:nvGrpSpPr>
          <p:grpSpPr>
            <a:xfrm>
              <a:off x="-19080" y="203040"/>
              <a:ext cx="9162720" cy="648000"/>
              <a:chOff x="-19080" y="203040"/>
              <a:chExt cx="9162720" cy="648000"/>
            </a:xfrm>
          </p:grpSpPr>
          <p:pic>
            <p:nvPicPr>
              <p:cNvPr id="159" name="Freeform 11" descr=""/>
              <p:cNvPicPr/>
              <p:nvPr/>
            </p:nvPicPr>
            <p:blipFill>
              <a:blip r:embed="rId3"/>
              <a:stretch/>
            </p:blipFill>
            <p:spPr>
              <a:xfrm>
                <a:off x="3960" y="203040"/>
                <a:ext cx="9139680" cy="648000"/>
              </a:xfrm>
              <a:prstGeom prst="rect">
                <a:avLst/>
              </a:prstGeom>
              <a:ln w="0">
                <a:noFill/>
              </a:ln>
            </p:spPr>
          </p:pic>
          <p:sp>
            <p:nvSpPr>
              <p:cNvPr id="16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61" name="Freeform 12"/>
            <p:cNvGrpSpPr/>
            <p:nvPr/>
          </p:nvGrpSpPr>
          <p:grpSpPr>
            <a:xfrm>
              <a:off x="-19080" y="248040"/>
              <a:ext cx="9181080" cy="565200"/>
              <a:chOff x="-19080" y="248040"/>
              <a:chExt cx="9181080" cy="565200"/>
            </a:xfrm>
          </p:grpSpPr>
          <p:pic>
            <p:nvPicPr>
              <p:cNvPr id="162" name="Freeform 12" descr=""/>
              <p:cNvPicPr/>
              <p:nvPr/>
            </p:nvPicPr>
            <p:blipFill>
              <a:blip r:embed="rId4"/>
              <a:stretch/>
            </p:blipFill>
            <p:spPr>
              <a:xfrm>
                <a:off x="-3240" y="248040"/>
                <a:ext cx="9165240" cy="565200"/>
              </a:xfrm>
              <a:prstGeom prst="rect">
                <a:avLst/>
              </a:prstGeom>
              <a:ln w="0">
                <a:noFill/>
              </a:ln>
            </p:spPr>
          </p:pic>
          <p:sp>
            <p:nvSpPr>
              <p:cNvPr id="16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202" name="Group 1"/>
          <p:cNvGrpSpPr/>
          <p:nvPr/>
        </p:nvGrpSpPr>
        <p:grpSpPr>
          <a:xfrm>
            <a:off x="-19080" y="203040"/>
            <a:ext cx="9181080" cy="648000"/>
            <a:chOff x="-19080" y="203040"/>
            <a:chExt cx="9181080" cy="648000"/>
          </a:xfrm>
        </p:grpSpPr>
        <p:grpSp>
          <p:nvGrpSpPr>
            <p:cNvPr id="203" name="Freeform 11"/>
            <p:cNvGrpSpPr/>
            <p:nvPr/>
          </p:nvGrpSpPr>
          <p:grpSpPr>
            <a:xfrm>
              <a:off x="-19080" y="203040"/>
              <a:ext cx="9162720" cy="648000"/>
              <a:chOff x="-19080" y="203040"/>
              <a:chExt cx="9162720" cy="648000"/>
            </a:xfrm>
          </p:grpSpPr>
          <p:pic>
            <p:nvPicPr>
              <p:cNvPr id="204" name="Freeform 11" descr=""/>
              <p:cNvPicPr/>
              <p:nvPr/>
            </p:nvPicPr>
            <p:blipFill>
              <a:blip r:embed="rId3"/>
              <a:stretch/>
            </p:blipFill>
            <p:spPr>
              <a:xfrm>
                <a:off x="3960" y="203040"/>
                <a:ext cx="9139680" cy="648000"/>
              </a:xfrm>
              <a:prstGeom prst="rect">
                <a:avLst/>
              </a:prstGeom>
              <a:ln w="0">
                <a:noFill/>
              </a:ln>
            </p:spPr>
          </p:pic>
          <p:sp>
            <p:nvSpPr>
              <p:cNvPr id="2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206" name="Freeform 12"/>
            <p:cNvGrpSpPr/>
            <p:nvPr/>
          </p:nvGrpSpPr>
          <p:grpSpPr>
            <a:xfrm>
              <a:off x="-19080" y="248040"/>
              <a:ext cx="9181080" cy="565200"/>
              <a:chOff x="-19080" y="248040"/>
              <a:chExt cx="9181080" cy="565200"/>
            </a:xfrm>
          </p:grpSpPr>
          <p:pic>
            <p:nvPicPr>
              <p:cNvPr id="207" name="Freeform 12" descr=""/>
              <p:cNvPicPr/>
              <p:nvPr/>
            </p:nvPicPr>
            <p:blipFill>
              <a:blip r:embed="rId4"/>
              <a:stretch/>
            </p:blipFill>
            <p:spPr>
              <a:xfrm>
                <a:off x="-3240" y="248040"/>
                <a:ext cx="9165240" cy="565200"/>
              </a:xfrm>
              <a:prstGeom prst="rect">
                <a:avLst/>
              </a:prstGeom>
              <a:ln w="0">
                <a:noFill/>
              </a:ln>
            </p:spPr>
          </p:pic>
          <p:sp>
            <p:nvSpPr>
              <p:cNvPr id="2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0B286-4636-4CF5-97A6-409B93541ABB}"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252" name="Group 1"/>
          <p:cNvGrpSpPr/>
          <p:nvPr/>
        </p:nvGrpSpPr>
        <p:grpSpPr>
          <a:xfrm>
            <a:off x="-19080" y="203040"/>
            <a:ext cx="9181080" cy="648000"/>
            <a:chOff x="-19080" y="203040"/>
            <a:chExt cx="9181080" cy="648000"/>
          </a:xfrm>
        </p:grpSpPr>
        <p:grpSp>
          <p:nvGrpSpPr>
            <p:cNvPr id="253" name="Freeform 11"/>
            <p:cNvGrpSpPr/>
            <p:nvPr/>
          </p:nvGrpSpPr>
          <p:grpSpPr>
            <a:xfrm>
              <a:off x="-19080" y="203040"/>
              <a:ext cx="9162720" cy="648000"/>
              <a:chOff x="-19080" y="203040"/>
              <a:chExt cx="9162720" cy="648000"/>
            </a:xfrm>
          </p:grpSpPr>
          <p:pic>
            <p:nvPicPr>
              <p:cNvPr id="254" name="Freeform 11" descr=""/>
              <p:cNvPicPr/>
              <p:nvPr/>
            </p:nvPicPr>
            <p:blipFill>
              <a:blip r:embed="rId3"/>
              <a:stretch/>
            </p:blipFill>
            <p:spPr>
              <a:xfrm>
                <a:off x="3960" y="203040"/>
                <a:ext cx="9139680" cy="648000"/>
              </a:xfrm>
              <a:prstGeom prst="rect">
                <a:avLst/>
              </a:prstGeom>
              <a:ln w="0">
                <a:noFill/>
              </a:ln>
            </p:spPr>
          </p:pic>
          <p:sp>
            <p:nvSpPr>
              <p:cNvPr id="2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256" name="Freeform 12"/>
            <p:cNvGrpSpPr/>
            <p:nvPr/>
          </p:nvGrpSpPr>
          <p:grpSpPr>
            <a:xfrm>
              <a:off x="-19080" y="248040"/>
              <a:ext cx="9181080" cy="565200"/>
              <a:chOff x="-19080" y="248040"/>
              <a:chExt cx="9181080" cy="565200"/>
            </a:xfrm>
          </p:grpSpPr>
          <p:pic>
            <p:nvPicPr>
              <p:cNvPr id="257" name="Freeform 12" descr=""/>
              <p:cNvPicPr/>
              <p:nvPr/>
            </p:nvPicPr>
            <p:blipFill>
              <a:blip r:embed="rId4"/>
              <a:stretch/>
            </p:blipFill>
            <p:spPr>
              <a:xfrm>
                <a:off x="-3240" y="248040"/>
                <a:ext cx="9165240" cy="565200"/>
              </a:xfrm>
              <a:prstGeom prst="rect">
                <a:avLst/>
              </a:prstGeom>
              <a:ln w="0">
                <a:noFill/>
              </a:ln>
            </p:spPr>
          </p:pic>
          <p:sp>
            <p:nvSpPr>
              <p:cNvPr id="2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7D2B5-AA1C-4202-BB3D-7E0782DC45AB}"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30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06"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307"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8" name="PlaceHolder 5"/>
          <p:cNvSpPr>
            <a:spLocks noGrp="1"/>
          </p:cNvSpPr>
          <p:nvPr>
            <p:ph type="sldNum" idx="21"/>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7C845-2C19-44D6-98BD-67D41EC22904}"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4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6"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7"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8"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9"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50" name="Straight Connector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51"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52"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53" name="Oval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5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56"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57"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58" name="PlaceHolder 5"/>
          <p:cNvSpPr>
            <a:spLocks noGrp="1"/>
          </p:cNvSpPr>
          <p:nvPr>
            <p:ph type="sldNum" idx="24"/>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A0A72-F573-4779-A28D-E72C62426174}"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9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40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0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06" name="PlaceHolder 3"/>
          <p:cNvSpPr>
            <a:spLocks noGrp="1"/>
          </p:cNvSpPr>
          <p:nvPr>
            <p:ph type="dt" idx="2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07" name="PlaceHolder 4"/>
          <p:cNvSpPr>
            <a:spLocks noGrp="1"/>
          </p:cNvSpPr>
          <p:nvPr>
            <p:ph type="ftr" idx="2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8" name="PlaceHolder 5"/>
          <p:cNvSpPr>
            <a:spLocks noGrp="1"/>
          </p:cNvSpPr>
          <p:nvPr>
            <p:ph type="sldNum" idx="27"/>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72369-9EFF-409B-8904-9B5966630EC0}"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gif"/><Relationship Id="rId5" Type="http://schemas.openxmlformats.org/officeDocument/2006/relationships/slideLayout" Target="../slideLayouts/slideLayout229.xml"/>
</Relationships>
</file>

<file path=ppt/slides/_rels/slide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Title 1" descr=""/>
          <p:cNvPicPr/>
          <p:nvPr/>
        </p:nvPicPr>
        <p:blipFill>
          <a:blip r:embed="rId1"/>
          <a:stretch/>
        </p:blipFill>
        <p:spPr>
          <a:xfrm>
            <a:off x="341280" y="1352520"/>
            <a:ext cx="7997760" cy="191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Patterns and times of breeding</a:t>
            </a:r>
            <a:endParaRPr b="0" lang="en-US" sz="5000" spc="-1" strike="noStrike">
              <a:solidFill>
                <a:srgbClr val="04617b"/>
              </a:solidFill>
              <a:latin typeface="Calibri"/>
            </a:endParaRPr>
          </a:p>
        </p:txBody>
      </p:sp>
      <p:sp>
        <p:nvSpPr>
          <p:cNvPr id="1637" name=""/>
          <p:cNvSpPr txBox="1"/>
          <p:nvPr/>
        </p:nvSpPr>
        <p:spPr>
          <a:xfrm>
            <a:off x="714240" y="1857240"/>
            <a:ext cx="8229600" cy="4097520"/>
          </a:xfrm>
          <a:prstGeom prst="rect">
            <a:avLst/>
          </a:prstGeom>
          <a:noFill/>
          <a:ln w="0">
            <a:noFill/>
          </a:ln>
        </p:spPr>
        <p:txBody>
          <a:bodyPr lIns="90000" rIns="90000" tIns="46800" bIns="46800"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00000"/>
                </a:solidFill>
                <a:latin typeface="Constantia"/>
              </a:rPr>
              <a:t>Mate then die</a:t>
            </a:r>
            <a:endParaRPr b="0" lang="en-US" sz="32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Eg short-finned eel – mates once then di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Eg Chinook salmon – female lays eggs for the male to fertilise, covers the eggs, then lays more eggs in another location.  The adults die after breeding.  The young make their way out to sea, eventually return to the same spawning grounds to breed and die.</a:t>
            </a:r>
            <a:endParaRPr b="0" lang="en-US" sz="2400" spc="-1" strike="noStrike">
              <a:solidFill>
                <a:srgbClr val="000000"/>
              </a:solidFill>
              <a:latin typeface="Constantia"/>
            </a:endParaRPr>
          </a:p>
        </p:txBody>
      </p:sp>
      <p:pic>
        <p:nvPicPr>
          <p:cNvPr id="1638" name="Picture 3" descr="52I1CAGKXG0ECA0E01Z4CAH21Z1XCA6RTIAVCA5H76QCCA6VSDF2CAYG2OKJCAKXHHGTCAWI3OFLCA93PTXXCAHMX7CDCAC3K0PJCAEM4SHFCAJHQ3GWCA2LWIT5CAK09LNVCAP822K9CA0OS9RICAEKA2NW.jpg"/>
          <p:cNvPicPr/>
          <p:nvPr/>
        </p:nvPicPr>
        <p:blipFill>
          <a:blip r:embed="rId1"/>
          <a:stretch/>
        </p:blipFill>
        <p:spPr>
          <a:xfrm>
            <a:off x="3143160" y="5500800"/>
            <a:ext cx="1546200" cy="981000"/>
          </a:xfrm>
          <a:prstGeom prst="rect">
            <a:avLst/>
          </a:prstGeom>
          <a:ln w="0">
            <a:noFill/>
          </a:ln>
        </p:spPr>
      </p:pic>
      <p:pic>
        <p:nvPicPr>
          <p:cNvPr id="1639" name="Picture 4" descr="HK8BCA1ERO7YCAMRDQCSCADH6WCUCA1BMV51CA5PJN3ACABROGV2CAJJ26C5CASYB9LLCA7KZSIQCAHYD98BCADH7R50CA4754H9CA0F93I2CAXRG43YCAZTL7FICAOC2FGYCAO5USTGCA1CZ3O3CA7FSODH.jpg"/>
          <p:cNvPicPr/>
          <p:nvPr/>
        </p:nvPicPr>
        <p:blipFill>
          <a:blip r:embed="rId2"/>
          <a:stretch/>
        </p:blipFill>
        <p:spPr>
          <a:xfrm>
            <a:off x="5000760" y="5072040"/>
            <a:ext cx="1834920" cy="1552680"/>
          </a:xfrm>
          <a:prstGeom prst="rect">
            <a:avLst/>
          </a:prstGeom>
          <a:ln w="0">
            <a:noFill/>
          </a:ln>
        </p:spPr>
      </p:pic>
      <p:pic>
        <p:nvPicPr>
          <p:cNvPr id="1640" name="Picture 5" descr="CZFRCAHXI2RICAW26694CAQHZY3JCA27DO0SCAS8UXZLCACZ1JXECAYYZA5MCAYLRW6VCADTSYO3CADJBX4GCA3ZSB9TCAVFL0MFCAUVA96LCA2YE035CAUTD1BBCAO80GX0CAS3ZXQRCAVRCVYFCA136A6X.jpg"/>
          <p:cNvPicPr/>
          <p:nvPr/>
        </p:nvPicPr>
        <p:blipFill>
          <a:blip r:embed="rId3"/>
          <a:stretch/>
        </p:blipFill>
        <p:spPr>
          <a:xfrm>
            <a:off x="714240" y="5367240"/>
            <a:ext cx="1857600" cy="1109880"/>
          </a:xfrm>
          <a:prstGeom prst="rect">
            <a:avLst/>
          </a:prstGeom>
          <a:ln w="0">
            <a:noFill/>
          </a:ln>
        </p:spPr>
      </p:pic>
      <p:pic>
        <p:nvPicPr>
          <p:cNvPr id="1641" name="Picture 6" descr="QK2ICA6ZZIHSCAES3P9HCADB7K2ACAOGUHAQCACRGIWLCAILEJF7CAF3TNQFCAX1N2DZCALK373JCATG0N8UCA0BGGGYCACZAM40CARVT1XZCAO3WH9LCAOSPMUFCAPG0379CA9NB1CXCA576M8KCA8R19E4.jpg"/>
          <p:cNvPicPr/>
          <p:nvPr/>
        </p:nvPicPr>
        <p:blipFill>
          <a:blip r:embed="rId4"/>
          <a:stretch/>
        </p:blipFill>
        <p:spPr>
          <a:xfrm>
            <a:off x="7143840" y="5143680"/>
            <a:ext cx="1925640" cy="138564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1637">
                                            <p:txEl>
                                              <p:pRg st="0" end="0"/>
                                            </p:txEl>
                                          </p:spTgt>
                                        </p:tgtEl>
                                        <p:attrNameLst>
                                          <p:attrName>style.visibility</p:attrName>
                                        </p:attrNameLst>
                                      </p:cBhvr>
                                      <p:to>
                                        <p:strVal val="visible"/>
                                      </p:to>
                                    </p:set>
                                    <p:animEffect filter="box(in)" transition="in">
                                      <p:cBhvr additive="repl">
                                        <p:cTn id="104" dur="500"/>
                                        <p:tgtEl>
                                          <p:spTgt spid="1637">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1637">
                                            <p:txEl>
                                              <p:pRg st="1" end="1"/>
                                            </p:txEl>
                                          </p:spTgt>
                                        </p:tgtEl>
                                        <p:attrNameLst>
                                          <p:attrName>style.visibility</p:attrName>
                                        </p:attrNameLst>
                                      </p:cBhvr>
                                      <p:to>
                                        <p:strVal val="visible"/>
                                      </p:to>
                                    </p:set>
                                    <p:animEffect filter="box(in)" transition="in">
                                      <p:cBhvr additive="repl">
                                        <p:cTn id="109" dur="500"/>
                                        <p:tgtEl>
                                          <p:spTgt spid="1637">
                                            <p:txEl>
                                              <p:pRg st="1" end="1"/>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1637">
                                            <p:txEl>
                                              <p:pRg st="2" end="2"/>
                                            </p:txEl>
                                          </p:spTgt>
                                        </p:tgtEl>
                                        <p:attrNameLst>
                                          <p:attrName>style.visibility</p:attrName>
                                        </p:attrNameLst>
                                      </p:cBhvr>
                                      <p:to>
                                        <p:strVal val="visible"/>
                                      </p:to>
                                    </p:set>
                                    <p:animEffect filter="box(in)" transition="in">
                                      <p:cBhvr additive="repl">
                                        <p:cTn id="114" dur="500"/>
                                        <p:tgtEl>
                                          <p:spTgt spid="16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b9899"/>
                </a:solidFill>
                <a:latin typeface="Georgia"/>
              </a:rPr>
              <a:t>How often do matings occur?</a:t>
            </a:r>
            <a:endParaRPr b="0" lang="en-US" sz="4400" spc="-1" strike="noStrike">
              <a:solidFill>
                <a:srgbClr val="7b9899"/>
              </a:solidFill>
              <a:latin typeface="Georgia"/>
            </a:endParaRPr>
          </a:p>
        </p:txBody>
      </p:sp>
      <p:sp>
        <p:nvSpPr>
          <p:cNvPr id="160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Matings often occur just before each fertilisation event because sperm cells typically do not live long after being released by the male – either into the environment (</a:t>
            </a:r>
            <a:r>
              <a:rPr b="0" lang="en-AU" sz="2700" spc="-1" strike="noStrike">
                <a:solidFill>
                  <a:srgbClr val="ff0000"/>
                </a:solidFill>
                <a:latin typeface="Georgia"/>
              </a:rPr>
              <a:t>external fertilisation</a:t>
            </a:r>
            <a:r>
              <a:rPr b="0" lang="en-AU" sz="2700" spc="-1" strike="noStrike">
                <a:solidFill>
                  <a:srgbClr val="000000"/>
                </a:solidFill>
                <a:latin typeface="Georgia"/>
              </a:rPr>
              <a:t>) or into the female’s reproductive tract (</a:t>
            </a:r>
            <a:r>
              <a:rPr b="0" lang="en-AU" sz="2700" spc="-1" strike="noStrike">
                <a:solidFill>
                  <a:srgbClr val="ff0000"/>
                </a:solidFill>
                <a:latin typeface="Georgia"/>
              </a:rPr>
              <a:t>internal fertilisation</a:t>
            </a:r>
            <a:r>
              <a:rPr b="0" lang="en-AU" sz="2700" spc="-1" strike="noStrike">
                <a:solidFill>
                  <a:srgbClr val="000000"/>
                </a:solidFill>
                <a:latin typeface="Georgia"/>
              </a:rPr>
              <a:t>).</a:t>
            </a:r>
            <a:endParaRPr b="0" lang="en-US" sz="2700" spc="-1" strike="noStrike">
              <a:solidFill>
                <a:srgbClr val="000000"/>
              </a:solidFill>
              <a:latin typeface="Georgia"/>
            </a:endParaRPr>
          </a:p>
        </p:txBody>
      </p:sp>
      <p:pic>
        <p:nvPicPr>
          <p:cNvPr id="1605" name="Picture 3" descr="6UCWCA0L0NTSCAADH4RWCAC2LCB3CA54WL68CA7B7G8TCABCQSRLCABCRKR0CAPXYKZWCAETFX8XCACHX2XCCAAPELPECA7Q32S9CAIWP6QECAVZ2JX2CASOAYHXCAO5YTCGCAT6BMP3CAGIUYXQCAAGX6DO.jpg"/>
          <p:cNvPicPr/>
          <p:nvPr/>
        </p:nvPicPr>
        <p:blipFill>
          <a:blip r:embed="rId1"/>
          <a:stretch/>
        </p:blipFill>
        <p:spPr>
          <a:xfrm>
            <a:off x="1000080" y="3998880"/>
            <a:ext cx="1643040" cy="2201760"/>
          </a:xfrm>
          <a:prstGeom prst="rect">
            <a:avLst/>
          </a:prstGeom>
          <a:ln w="0">
            <a:noFill/>
          </a:ln>
        </p:spPr>
      </p:pic>
      <p:pic>
        <p:nvPicPr>
          <p:cNvPr id="1606" name="Picture 4" descr="8ECUCALRWP4YCAC9WZVHCA1GD1QSCAJUBA2JCAJPXT26CAA7IFRVCAEA2U43CA7VT6NFCAB2QV5MCAPAJOT3CAHTQ0BDCADF3746CA9OV5WMCAL81WJ0CAYODRX1CA8FBLN8CAK14UBGCAQ9S1DFCA35P5PK.jpg"/>
          <p:cNvPicPr/>
          <p:nvPr/>
        </p:nvPicPr>
        <p:blipFill>
          <a:blip r:embed="rId2"/>
          <a:stretch/>
        </p:blipFill>
        <p:spPr>
          <a:xfrm>
            <a:off x="3000240" y="4071960"/>
            <a:ext cx="2916360" cy="2052720"/>
          </a:xfrm>
          <a:prstGeom prst="rect">
            <a:avLst/>
          </a:prstGeom>
          <a:ln w="0">
            <a:noFill/>
          </a:ln>
        </p:spPr>
      </p:pic>
      <p:pic>
        <p:nvPicPr>
          <p:cNvPr id="1607" name="Picture 5" descr="RWSDCA1AA61MCAPX3MF8CAZB40W9CARMDNMLCAKRHJL5CAS5DXK1CA3W5GYKCAMWW785CAE5LGUKCA6GJ76NCARUQR52CA0OME05CAYZD4IICAGC52EKCAIO7S0OCA8UKFESCAHIG11MCACTJMJHCACJQG2W.jpg"/>
          <p:cNvPicPr/>
          <p:nvPr/>
        </p:nvPicPr>
        <p:blipFill>
          <a:blip r:embed="rId3"/>
          <a:stretch/>
        </p:blipFill>
        <p:spPr>
          <a:xfrm>
            <a:off x="6215040" y="4079880"/>
            <a:ext cx="2000160" cy="201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Patterns and times of breeding</a:t>
            </a:r>
            <a:endParaRPr b="0" lang="en-US" sz="5000" spc="-1" strike="noStrike">
              <a:solidFill>
                <a:srgbClr val="04617b"/>
              </a:solidFill>
              <a:latin typeface="Calibri"/>
            </a:endParaRPr>
          </a:p>
        </p:txBody>
      </p:sp>
      <p:sp>
        <p:nvSpPr>
          <p:cNvPr id="16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89ca3"/>
                </a:solidFill>
                <a:latin typeface="Constantia"/>
              </a:rPr>
              <a:t>Breeding season </a:t>
            </a:r>
            <a:r>
              <a:rPr b="0" lang="en-AU" sz="2600" spc="-1" strike="noStrike">
                <a:solidFill>
                  <a:srgbClr val="000000"/>
                </a:solidFill>
                <a:latin typeface="Constantia"/>
              </a:rPr>
              <a:t>– period when mature members of the population have sperm and eggs ready for release and fertilis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89ca3"/>
                </a:solidFill>
                <a:latin typeface="Constantia"/>
              </a:rPr>
              <a:t>Spawning season </a:t>
            </a:r>
            <a:r>
              <a:rPr b="0" lang="en-AU" sz="2600" spc="-1" strike="noStrike">
                <a:solidFill>
                  <a:srgbClr val="000000"/>
                </a:solidFill>
                <a:latin typeface="Constantia"/>
              </a:rPr>
              <a:t>– (external fertilisation) same as breeding season but for aquatic environ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89ca3"/>
                </a:solidFill>
                <a:latin typeface="Constantia"/>
              </a:rPr>
              <a:t>Mating season </a:t>
            </a:r>
            <a:r>
              <a:rPr b="0" lang="en-AU" sz="2600" spc="-1" strike="noStrike">
                <a:solidFill>
                  <a:srgbClr val="000000"/>
                </a:solidFill>
                <a:latin typeface="Constantia"/>
              </a:rPr>
              <a:t>– for animals with internal fertilis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610" name="Picture 3" descr="baby001.gif"/>
          <p:cNvPicPr/>
          <p:nvPr/>
        </p:nvPicPr>
        <p:blipFill>
          <a:blip r:embed="rId1"/>
          <a:stretch/>
        </p:blipFill>
        <p:spPr>
          <a:xfrm>
            <a:off x="3286080" y="4646520"/>
            <a:ext cx="2286000" cy="1839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609">
                                            <p:txEl>
                                              <p:pRg st="0" end="0"/>
                                            </p:txEl>
                                          </p:spTgt>
                                        </p:tgtEl>
                                        <p:attrNameLst>
                                          <p:attrName>style.visibility</p:attrName>
                                        </p:attrNameLst>
                                      </p:cBhvr>
                                      <p:to>
                                        <p:strVal val="visible"/>
                                      </p:to>
                                    </p:set>
                                    <p:animEffect filter="box(in)" transition="in">
                                      <p:cBhvr additive="repl">
                                        <p:cTn id="7" dur="500"/>
                                        <p:tgtEl>
                                          <p:spTgt spid="160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609">
                                            <p:txEl>
                                              <p:pRg st="1" end="1"/>
                                            </p:txEl>
                                          </p:spTgt>
                                        </p:tgtEl>
                                        <p:attrNameLst>
                                          <p:attrName>style.visibility</p:attrName>
                                        </p:attrNameLst>
                                      </p:cBhvr>
                                      <p:to>
                                        <p:strVal val="visible"/>
                                      </p:to>
                                    </p:set>
                                    <p:animEffect filter="box(in)" transition="in">
                                      <p:cBhvr additive="repl">
                                        <p:cTn id="12" dur="500"/>
                                        <p:tgtEl>
                                          <p:spTgt spid="160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609">
                                            <p:txEl>
                                              <p:pRg st="2" end="2"/>
                                            </p:txEl>
                                          </p:spTgt>
                                        </p:tgtEl>
                                        <p:attrNameLst>
                                          <p:attrName>style.visibility</p:attrName>
                                        </p:attrNameLst>
                                      </p:cBhvr>
                                      <p:to>
                                        <p:strVal val="visible"/>
                                      </p:to>
                                    </p:set>
                                    <p:animEffect filter="box(in)" transition="in">
                                      <p:cBhvr additive="repl">
                                        <p:cTn id="17" dur="500"/>
                                        <p:tgtEl>
                                          <p:spTgt spid="16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b9899"/>
                </a:solidFill>
                <a:latin typeface="Georgia"/>
              </a:rPr>
              <a:t>How often do matings occur?</a:t>
            </a:r>
            <a:endParaRPr b="0" lang="en-US" sz="4000" spc="-1" strike="noStrike">
              <a:solidFill>
                <a:srgbClr val="7b9899"/>
              </a:solidFill>
              <a:latin typeface="Georgia"/>
            </a:endParaRPr>
          </a:p>
        </p:txBody>
      </p:sp>
      <p:sp>
        <p:nvSpPr>
          <p:cNvPr id="1612"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In some animals sperm from one mating remains viable for a long period and can be stored by the femal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Eg. honeybees</a:t>
            </a:r>
            <a:endParaRPr b="0" lang="en-US" sz="2700" spc="-1" strike="noStrike">
              <a:solidFill>
                <a:srgbClr val="000000"/>
              </a:solidFill>
              <a:latin typeface="Georgia"/>
            </a:endParaRPr>
          </a:p>
        </p:txBody>
      </p:sp>
      <p:pic>
        <p:nvPicPr>
          <p:cNvPr id="1613" name="Picture 3" descr="KQ3TCA8SJUU0CA0V131WCA367JZYCAH70WRVCAKKL64DCA6LUC82CAS3E6I8CA10PA7XCAH9SX2UCAYUE8WACA6DX0Y9CAO08ED4CAVXLQQRCAXLEUGQCAS9BCHWCAUX9RWVCAYE85JFCALQQP5PCA11OMP2.jpg"/>
          <p:cNvPicPr/>
          <p:nvPr/>
        </p:nvPicPr>
        <p:blipFill>
          <a:blip r:embed="rId1"/>
          <a:stretch/>
        </p:blipFill>
        <p:spPr>
          <a:xfrm>
            <a:off x="1071720" y="4035600"/>
            <a:ext cx="2286000" cy="1746000"/>
          </a:xfrm>
          <a:prstGeom prst="rect">
            <a:avLst/>
          </a:prstGeom>
          <a:ln w="0">
            <a:noFill/>
          </a:ln>
        </p:spPr>
      </p:pic>
      <p:pic>
        <p:nvPicPr>
          <p:cNvPr id="1614" name="Picture 4" descr="YY20CAD6S61DCA4XV3K1CAKR12E6CAGLSEMYCARQKGR5CAG0QM9HCAEKVKMNCAX1AXO1CA3PV08OCA817JJ3CAEA7H7ICAVQ2D3DCAK7VRWGCAS78CPVCAEJ84G9CAWKVD4SCA956WOKCADKFOJLCAQM8XSI.jpg"/>
          <p:cNvPicPr/>
          <p:nvPr/>
        </p:nvPicPr>
        <p:blipFill>
          <a:blip r:embed="rId2"/>
          <a:stretch/>
        </p:blipFill>
        <p:spPr>
          <a:xfrm>
            <a:off x="3571920" y="2571840"/>
            <a:ext cx="2871720" cy="1861920"/>
          </a:xfrm>
          <a:prstGeom prst="rect">
            <a:avLst/>
          </a:prstGeom>
          <a:ln w="0">
            <a:noFill/>
          </a:ln>
        </p:spPr>
      </p:pic>
      <p:pic>
        <p:nvPicPr>
          <p:cNvPr id="1615" name="Picture 5" descr="Z4AACA5F7HZ9CAD6BPJ7CAC0ZWG6CAPC4L9HCAURX7N0CAOIFDJPCAINCYIFCA8ACN2GCAO05ODDCAF9BO5WCAD9OKGACAWD3ULGCAA8SOW4CA2JN1A4CAU1UK2VCA7OONBUCASO34BNCACJS2M2CAZJF8ZT.jpg"/>
          <p:cNvPicPr/>
          <p:nvPr/>
        </p:nvPicPr>
        <p:blipFill>
          <a:blip r:embed="rId3"/>
          <a:stretch/>
        </p:blipFill>
        <p:spPr>
          <a:xfrm>
            <a:off x="6205680" y="3786120"/>
            <a:ext cx="2850840" cy="1871640"/>
          </a:xfrm>
          <a:prstGeom prst="rect">
            <a:avLst/>
          </a:prstGeom>
          <a:ln w="0">
            <a:noFill/>
          </a:ln>
        </p:spPr>
      </p:pic>
      <p:pic>
        <p:nvPicPr>
          <p:cNvPr id="1616" name="Picture 6" descr="buzzy_mad_md_clr.gif"/>
          <p:cNvPicPr/>
          <p:nvPr/>
        </p:nvPicPr>
        <p:blipFill>
          <a:blip r:embed="rId4"/>
          <a:stretch/>
        </p:blipFill>
        <p:spPr>
          <a:xfrm>
            <a:off x="4071960" y="507204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612">
                                            <p:txEl>
                                              <p:pRg st="0" end="0"/>
                                            </p:txEl>
                                          </p:spTgt>
                                        </p:tgtEl>
                                        <p:attrNameLst>
                                          <p:attrName>style.visibility</p:attrName>
                                        </p:attrNameLst>
                                      </p:cBhvr>
                                      <p:to>
                                        <p:strVal val="visible"/>
                                      </p:to>
                                    </p:set>
                                    <p:animEffect filter="box(in)" transition="in">
                                      <p:cBhvr additive="repl">
                                        <p:cTn id="24" dur="500"/>
                                        <p:tgtEl>
                                          <p:spTgt spid="161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612">
                                            <p:txEl>
                                              <p:pRg st="2" end="2"/>
                                            </p:txEl>
                                          </p:spTgt>
                                        </p:tgtEl>
                                        <p:attrNameLst>
                                          <p:attrName>style.visibility</p:attrName>
                                        </p:attrNameLst>
                                      </p:cBhvr>
                                      <p:to>
                                        <p:strVal val="visible"/>
                                      </p:to>
                                    </p:set>
                                    <p:animEffect filter="box(in)" transition="in">
                                      <p:cBhvr additive="repl">
                                        <p:cTn id="29" dur="500"/>
                                        <p:tgtEl>
                                          <p:spTgt spid="16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Patterns and times of breeding</a:t>
            </a:r>
            <a:endParaRPr b="0" lang="en-US" sz="5000" spc="-1" strike="noStrike">
              <a:solidFill>
                <a:srgbClr val="04617b"/>
              </a:solidFill>
              <a:latin typeface="Calibri"/>
            </a:endParaRPr>
          </a:p>
        </p:txBody>
      </p:sp>
      <p:sp>
        <p:nvSpPr>
          <p:cNvPr id="16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2060"/>
                </a:solidFill>
                <a:latin typeface="Constantia"/>
              </a:rPr>
              <a:t>Sexual reproduction</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Eggs and sperm must be available at the same time in members of the population</a:t>
            </a:r>
            <a:endParaRPr b="0" lang="en-US" sz="2400" spc="-1" strike="noStrike">
              <a:solidFill>
                <a:srgbClr val="000000"/>
              </a:solidFill>
              <a:latin typeface="Constantia"/>
            </a:endParaRPr>
          </a:p>
        </p:txBody>
      </p:sp>
      <p:pic>
        <p:nvPicPr>
          <p:cNvPr id="1619" name="Picture 3" descr="anim005.gif"/>
          <p:cNvPicPr/>
          <p:nvPr/>
        </p:nvPicPr>
        <p:blipFill>
          <a:blip r:embed="rId1"/>
          <a:stretch/>
        </p:blipFill>
        <p:spPr>
          <a:xfrm>
            <a:off x="2357280" y="3157560"/>
            <a:ext cx="3214800" cy="37004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1618">
                                            <p:txEl>
                                              <p:pRg st="0" end="0"/>
                                            </p:txEl>
                                          </p:spTgt>
                                        </p:tgtEl>
                                        <p:attrNameLst>
                                          <p:attrName>style.visibility</p:attrName>
                                        </p:attrNameLst>
                                      </p:cBhvr>
                                      <p:to>
                                        <p:strVal val="visible"/>
                                      </p:to>
                                    </p:set>
                                    <p:animEffect filter="box(in)" transition="in">
                                      <p:cBhvr additive="repl">
                                        <p:cTn id="36" dur="500"/>
                                        <p:tgtEl>
                                          <p:spTgt spid="1618">
                                            <p:txEl>
                                              <p:pRg st="0" end="0"/>
                                            </p:txEl>
                                          </p:spTgt>
                                        </p:tgtEl>
                                      </p:cBhvr>
                                    </p:animEffect>
                                  </p:childTnLst>
                                </p:cTn>
                              </p:par>
                              <p:par>
                                <p:cTn id="37" nodeType="withEffect" fill="hold" presetClass="entr" presetID="4" presetSubtype="16">
                                  <p:stCondLst>
                                    <p:cond delay="0"/>
                                  </p:stCondLst>
                                  <p:childTnLst>
                                    <p:set>
                                      <p:cBhvr>
                                        <p:cTn id="38" dur="1" fill="hold">
                                          <p:stCondLst>
                                            <p:cond delay="0"/>
                                          </p:stCondLst>
                                        </p:cTn>
                                        <p:tgtEl>
                                          <p:spTgt spid="1618">
                                            <p:txEl>
                                              <p:pRg st="1" end="1"/>
                                            </p:txEl>
                                          </p:spTgt>
                                        </p:tgtEl>
                                        <p:attrNameLst>
                                          <p:attrName>style.visibility</p:attrName>
                                        </p:attrNameLst>
                                      </p:cBhvr>
                                      <p:to>
                                        <p:strVal val="visible"/>
                                      </p:to>
                                    </p:set>
                                    <p:animEffect filter="box(in)" transition="in">
                                      <p:cBhvr additive="repl">
                                        <p:cTn id="39" dur="500"/>
                                        <p:tgtEl>
                                          <p:spTgt spid="16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Patterns and times of breeding</a:t>
            </a:r>
            <a:endParaRPr b="0" lang="en-US" sz="5000" spc="-1" strike="noStrike">
              <a:solidFill>
                <a:srgbClr val="04617b"/>
              </a:solidFill>
              <a:latin typeface="Calibri"/>
            </a:endParaRPr>
          </a:p>
        </p:txBody>
      </p:sp>
      <p:sp>
        <p:nvSpPr>
          <p:cNvPr id="162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roducing sperm and eggs (gametogenesis) is influenced by internal factors such as hormone levels also by external factors such as temperature and day length</a:t>
            </a:r>
            <a:endParaRPr b="0" lang="en-US" sz="2600" spc="-1" strike="noStrike">
              <a:solidFill>
                <a:srgbClr val="000000"/>
              </a:solidFill>
              <a:latin typeface="Constantia"/>
            </a:endParaRPr>
          </a:p>
        </p:txBody>
      </p:sp>
      <p:pic>
        <p:nvPicPr>
          <p:cNvPr id="1622" name="Picture 4" descr="Cat-05.gif"/>
          <p:cNvPicPr/>
          <p:nvPr/>
        </p:nvPicPr>
        <p:blipFill>
          <a:blip r:embed="rId1"/>
          <a:stretch/>
        </p:blipFill>
        <p:spPr>
          <a:xfrm>
            <a:off x="1857240" y="3578400"/>
            <a:ext cx="3000600" cy="245556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1621">
                                            <p:txEl>
                                              <p:pRg st="0" end="0"/>
                                            </p:txEl>
                                          </p:spTgt>
                                        </p:tgtEl>
                                        <p:attrNameLst>
                                          <p:attrName>style.visibility</p:attrName>
                                        </p:attrNameLst>
                                      </p:cBhvr>
                                      <p:to>
                                        <p:strVal val="visible"/>
                                      </p:to>
                                    </p:set>
                                    <p:animEffect filter="box(in)" transition="in">
                                      <p:cBhvr additive="repl">
                                        <p:cTn id="46" dur="500"/>
                                        <p:tgtEl>
                                          <p:spTgt spid="16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Patterns and times of breeding</a:t>
            </a:r>
            <a:endParaRPr b="0" lang="en-US" sz="5000" spc="-1" strike="noStrike">
              <a:solidFill>
                <a:srgbClr val="04617b"/>
              </a:solidFill>
              <a:latin typeface="Calibri"/>
            </a:endParaRPr>
          </a:p>
        </p:txBody>
      </p:sp>
      <p:sp>
        <p:nvSpPr>
          <p:cNvPr id="16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Most animal populations have distinct and regular breeding season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Single annual breeding seas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Biennial pattern of breeding (2 years required for individuals to mature and to spawn)</a:t>
            </a:r>
            <a:endParaRPr b="0" lang="en-US" sz="2400" spc="-1" strike="noStrike">
              <a:solidFill>
                <a:srgbClr val="000000"/>
              </a:solidFill>
              <a:latin typeface="Constantia"/>
            </a:endParaRPr>
          </a:p>
        </p:txBody>
      </p:sp>
      <p:pic>
        <p:nvPicPr>
          <p:cNvPr id="1625" name="Picture 3" descr="Dog-04.gif"/>
          <p:cNvPicPr/>
          <p:nvPr/>
        </p:nvPicPr>
        <p:blipFill>
          <a:blip r:embed="rId1"/>
          <a:stretch/>
        </p:blipFill>
        <p:spPr>
          <a:xfrm>
            <a:off x="2214720" y="4395960"/>
            <a:ext cx="1785960" cy="17856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624">
                                            <p:txEl>
                                              <p:pRg st="0" end="0"/>
                                            </p:txEl>
                                          </p:spTgt>
                                        </p:tgtEl>
                                        <p:attrNameLst>
                                          <p:attrName>style.visibility</p:attrName>
                                        </p:attrNameLst>
                                      </p:cBhvr>
                                      <p:to>
                                        <p:strVal val="visible"/>
                                      </p:to>
                                    </p:set>
                                    <p:animEffect filter="box(in)" transition="in">
                                      <p:cBhvr additive="repl">
                                        <p:cTn id="53" dur="500"/>
                                        <p:tgtEl>
                                          <p:spTgt spid="1624">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624">
                                            <p:txEl>
                                              <p:pRg st="1" end="1"/>
                                            </p:txEl>
                                          </p:spTgt>
                                        </p:tgtEl>
                                        <p:attrNameLst>
                                          <p:attrName>style.visibility</p:attrName>
                                        </p:attrNameLst>
                                      </p:cBhvr>
                                      <p:to>
                                        <p:strVal val="visible"/>
                                      </p:to>
                                    </p:set>
                                    <p:animEffect filter="box(in)" transition="in">
                                      <p:cBhvr additive="repl">
                                        <p:cTn id="58" dur="500"/>
                                        <p:tgtEl>
                                          <p:spTgt spid="1624">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624">
                                            <p:txEl>
                                              <p:pRg st="2" end="2"/>
                                            </p:txEl>
                                          </p:spTgt>
                                        </p:tgtEl>
                                        <p:attrNameLst>
                                          <p:attrName>style.visibility</p:attrName>
                                        </p:attrNameLst>
                                      </p:cBhvr>
                                      <p:to>
                                        <p:strVal val="visible"/>
                                      </p:to>
                                    </p:set>
                                    <p:animEffect filter="box(in)" transition="in">
                                      <p:cBhvr additive="repl">
                                        <p:cTn id="63" dur="500"/>
                                        <p:tgtEl>
                                          <p:spTgt spid="16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Patterns and times of breeding</a:t>
            </a:r>
            <a:endParaRPr b="0" lang="en-US" sz="5000" spc="-1" strike="noStrike">
              <a:solidFill>
                <a:srgbClr val="04617b"/>
              </a:solidFill>
              <a:latin typeface="Calibri"/>
            </a:endParaRPr>
          </a:p>
        </p:txBody>
      </p:sp>
      <p:sp>
        <p:nvSpPr>
          <p:cNvPr id="162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emale mammals produce eggs during a oestrous cycle that varies in length for different speci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Eg wolves, foxes and bears – one oestrous cycle per yea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Eg deer, sheep and goats – several oestrous cycles in a short period when hormonal changes are triggered by shorter day length</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How would the influence of day length on breeding improve survival for offspring?</a:t>
            </a:r>
            <a:endParaRPr b="0" lang="en-US" sz="2600" spc="-1" strike="noStrike">
              <a:solidFill>
                <a:srgbClr val="000000"/>
              </a:solidFill>
              <a:latin typeface="Constantia"/>
            </a:endParaRPr>
          </a:p>
        </p:txBody>
      </p:sp>
      <p:pic>
        <p:nvPicPr>
          <p:cNvPr id="1628" name="Picture 3" descr="NE4ICAI7GWJECA32N9TUCAYVKQA6CA2XYKJECA3AILRHCALR4XJWCARMT153CAZQXOSPCAYQ2TE9CA54RC0DCA3C6YHMCAF5V795CA8GWIZYCAH8NCFDCAIUQSKDCAXR2BUCCA87HEJHCAVHST5TCA3KL0EW.jpg"/>
          <p:cNvPicPr/>
          <p:nvPr/>
        </p:nvPicPr>
        <p:blipFill>
          <a:blip r:embed="rId1"/>
          <a:stretch/>
        </p:blipFill>
        <p:spPr>
          <a:xfrm>
            <a:off x="357120" y="5643720"/>
            <a:ext cx="1900440" cy="1166760"/>
          </a:xfrm>
          <a:prstGeom prst="rect">
            <a:avLst/>
          </a:prstGeom>
          <a:ln w="0">
            <a:noFill/>
          </a:ln>
        </p:spPr>
      </p:pic>
      <p:pic>
        <p:nvPicPr>
          <p:cNvPr id="1629" name="Picture 4" descr="RL6UCAIWDB4KCANH5J24CA2VKIACCAYUNQUWCA8664HMCAPDELOCCARRY6NNCA5U8B1KCAGSB4ZGCA1X0P2CCAIVVSV9CAOAMRLFCAAG6XJ4CANE7WZICAWBHB7PCABIQTGFCAICAEO4CACB12JKCAYG6EAX.jpg"/>
          <p:cNvPicPr/>
          <p:nvPr/>
        </p:nvPicPr>
        <p:blipFill>
          <a:blip r:embed="rId2"/>
          <a:stretch/>
        </p:blipFill>
        <p:spPr>
          <a:xfrm>
            <a:off x="3429000" y="5357880"/>
            <a:ext cx="1357200" cy="1454040"/>
          </a:xfrm>
          <a:prstGeom prst="rect">
            <a:avLst/>
          </a:prstGeom>
          <a:ln w="0">
            <a:noFill/>
          </a:ln>
        </p:spPr>
      </p:pic>
      <p:pic>
        <p:nvPicPr>
          <p:cNvPr id="1630" name="Picture 5" descr="XCEOCAB086BOCADMDI16CA6YZMXSCA8YE9O7CAI8EZL0CA99L7MCCARDHUJVCAB9X431CAUF9W0WCA677BRLCAQATKYTCA2AH51BCA474GU2CAZKVODDCA2ENIJHCAO9W4WGCA8QPDB0CAEPCGNCCAP3RAXY.jpg"/>
          <p:cNvPicPr/>
          <p:nvPr/>
        </p:nvPicPr>
        <p:blipFill>
          <a:blip r:embed="rId3"/>
          <a:stretch/>
        </p:blipFill>
        <p:spPr>
          <a:xfrm>
            <a:off x="6000840" y="5000760"/>
            <a:ext cx="1290600" cy="17128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627">
                                            <p:txEl>
                                              <p:pRg st="0" end="0"/>
                                            </p:txEl>
                                          </p:spTgt>
                                        </p:tgtEl>
                                        <p:attrNameLst>
                                          <p:attrName>style.visibility</p:attrName>
                                        </p:attrNameLst>
                                      </p:cBhvr>
                                      <p:to>
                                        <p:strVal val="visible"/>
                                      </p:to>
                                    </p:set>
                                    <p:animEffect filter="box(in)" transition="in">
                                      <p:cBhvr additive="repl">
                                        <p:cTn id="70" dur="500"/>
                                        <p:tgtEl>
                                          <p:spTgt spid="1627">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627">
                                            <p:txEl>
                                              <p:pRg st="1" end="1"/>
                                            </p:txEl>
                                          </p:spTgt>
                                        </p:tgtEl>
                                        <p:attrNameLst>
                                          <p:attrName>style.visibility</p:attrName>
                                        </p:attrNameLst>
                                      </p:cBhvr>
                                      <p:to>
                                        <p:strVal val="visible"/>
                                      </p:to>
                                    </p:set>
                                    <p:animEffect filter="box(in)" transition="in">
                                      <p:cBhvr additive="repl">
                                        <p:cTn id="75" dur="500"/>
                                        <p:tgtEl>
                                          <p:spTgt spid="1627">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1627">
                                            <p:txEl>
                                              <p:pRg st="2" end="2"/>
                                            </p:txEl>
                                          </p:spTgt>
                                        </p:tgtEl>
                                        <p:attrNameLst>
                                          <p:attrName>style.visibility</p:attrName>
                                        </p:attrNameLst>
                                      </p:cBhvr>
                                      <p:to>
                                        <p:strVal val="visible"/>
                                      </p:to>
                                    </p:set>
                                    <p:animEffect filter="box(in)" transition="in">
                                      <p:cBhvr additive="repl">
                                        <p:cTn id="80" dur="500"/>
                                        <p:tgtEl>
                                          <p:spTgt spid="1627">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627">
                                            <p:txEl>
                                              <p:pRg st="3" end="3"/>
                                            </p:txEl>
                                          </p:spTgt>
                                        </p:tgtEl>
                                        <p:attrNameLst>
                                          <p:attrName>style.visibility</p:attrName>
                                        </p:attrNameLst>
                                      </p:cBhvr>
                                      <p:to>
                                        <p:strVal val="visible"/>
                                      </p:to>
                                    </p:set>
                                    <p:animEffect filter="box(in)" transition="in">
                                      <p:cBhvr additive="repl">
                                        <p:cTn id="85" dur="500"/>
                                        <p:tgtEl>
                                          <p:spTgt spid="16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Patterns and times of breeding</a:t>
            </a:r>
            <a:endParaRPr b="0" lang="en-US" sz="5000" spc="-1" strike="noStrike">
              <a:solidFill>
                <a:srgbClr val="04617b"/>
              </a:solidFill>
              <a:latin typeface="Calibri"/>
            </a:endParaRPr>
          </a:p>
        </p:txBody>
      </p:sp>
      <p:sp>
        <p:nvSpPr>
          <p:cNvPr id="163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emales of most mammalian species will accept males for mating only at limited times of the ye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 these times the females of non-human mammals are said to be in </a:t>
            </a:r>
            <a:r>
              <a:rPr b="0" lang="en-AU" sz="2600" spc="-1" strike="noStrike">
                <a:solidFill>
                  <a:srgbClr val="ff0000"/>
                </a:solidFill>
                <a:latin typeface="Constantia"/>
              </a:rPr>
              <a:t>oestrus</a:t>
            </a:r>
            <a:r>
              <a:rPr b="0" lang="en-AU" sz="2600" spc="-1" strike="noStrike">
                <a:solidFill>
                  <a:srgbClr val="000000"/>
                </a:solidFill>
                <a:latin typeface="Constantia"/>
              </a:rPr>
              <a:t> (heat)</a:t>
            </a:r>
            <a:endParaRPr b="0" lang="en-US" sz="2600" spc="-1" strike="noStrike">
              <a:solidFill>
                <a:srgbClr val="000000"/>
              </a:solidFill>
              <a:latin typeface="Constantia"/>
            </a:endParaRPr>
          </a:p>
        </p:txBody>
      </p:sp>
      <p:pic>
        <p:nvPicPr>
          <p:cNvPr id="1633" name="Picture 3" descr="RKSXCAYIMEHBCALH3ZDQCAH1IFU3CAJ0IK02CA4HZZXECAP0B8ADCAMSUX6HCAUEPK2RCA71TGD3CAG2WJVYCASB6B92CAZBT521CAAVJPTWCA562IATCASQFGP6CA09J8EICA3A6BC6CAYG8HL2CAOTCK1Q.jpg"/>
          <p:cNvPicPr/>
          <p:nvPr/>
        </p:nvPicPr>
        <p:blipFill>
          <a:blip r:embed="rId1"/>
          <a:stretch/>
        </p:blipFill>
        <p:spPr>
          <a:xfrm>
            <a:off x="785880" y="4429080"/>
            <a:ext cx="2751120" cy="1990800"/>
          </a:xfrm>
          <a:prstGeom prst="rect">
            <a:avLst/>
          </a:prstGeom>
          <a:ln w="0">
            <a:noFill/>
          </a:ln>
        </p:spPr>
      </p:pic>
      <p:pic>
        <p:nvPicPr>
          <p:cNvPr id="1634" name="Picture 4" descr="images9.jpg"/>
          <p:cNvPicPr/>
          <p:nvPr/>
        </p:nvPicPr>
        <p:blipFill>
          <a:blip r:embed="rId2"/>
          <a:stretch/>
        </p:blipFill>
        <p:spPr>
          <a:xfrm>
            <a:off x="3929040" y="4394160"/>
            <a:ext cx="1571760" cy="2021040"/>
          </a:xfrm>
          <a:prstGeom prst="rect">
            <a:avLst/>
          </a:prstGeom>
          <a:ln w="0">
            <a:noFill/>
          </a:ln>
        </p:spPr>
      </p:pic>
      <p:pic>
        <p:nvPicPr>
          <p:cNvPr id="1635" name="Picture 5" descr="images11.jpg"/>
          <p:cNvPicPr/>
          <p:nvPr/>
        </p:nvPicPr>
        <p:blipFill>
          <a:blip r:embed="rId3"/>
          <a:stretch/>
        </p:blipFill>
        <p:spPr>
          <a:xfrm>
            <a:off x="5786280" y="4429080"/>
            <a:ext cx="2803680" cy="19191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632">
                                            <p:txEl>
                                              <p:pRg st="0" end="0"/>
                                            </p:txEl>
                                          </p:spTgt>
                                        </p:tgtEl>
                                        <p:attrNameLst>
                                          <p:attrName>style.visibility</p:attrName>
                                        </p:attrNameLst>
                                      </p:cBhvr>
                                      <p:to>
                                        <p:strVal val="visible"/>
                                      </p:to>
                                    </p:set>
                                    <p:animEffect filter="box(in)" transition="in">
                                      <p:cBhvr additive="repl">
                                        <p:cTn id="92" dur="500"/>
                                        <p:tgtEl>
                                          <p:spTgt spid="1632">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1632">
                                            <p:txEl>
                                              <p:pRg st="1" end="1"/>
                                            </p:txEl>
                                          </p:spTgt>
                                        </p:tgtEl>
                                        <p:attrNameLst>
                                          <p:attrName>style.visibility</p:attrName>
                                        </p:attrNameLst>
                                      </p:cBhvr>
                                      <p:to>
                                        <p:strVal val="visible"/>
                                      </p:to>
                                    </p:set>
                                    <p:animEffect filter="box(in)" transition="in">
                                      <p:cBhvr additive="repl">
                                        <p:cTn id="97" dur="500"/>
                                        <p:tgtEl>
                                          <p:spTgt spid="16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01:22:08Z</dcterms:created>
  <dc:creator>Lyn Clarkson</dc:creator>
  <dc:description/>
  <dc:language>en-US</dc:language>
  <cp:lastModifiedBy>Lyn Clarkson</cp:lastModifiedBy>
  <dcterms:modified xsi:type="dcterms:W3CDTF">2007-09-12T00:06:08Z</dcterms:modified>
  <cp:revision>14</cp:revision>
  <dc:subject/>
  <dc:title>Slide 1</dc:title>
</cp:coreProperties>
</file>